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03B8-4D60-4767-AAE4-E1B04058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86DE-B151-45FF-8F71-7DD8CAA9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7130-CE4E-4E82-931D-C1188E03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A077-6678-496C-9BCF-B193E04B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BE15-FA79-48BF-9DC0-08520824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696F-BE99-466D-8463-A807128D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2A01-564B-462F-9A67-723CE3FF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C4A3-977F-407A-9D92-A9419497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E531-96EF-462D-B396-8E66EE51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2DBB-088A-46B9-98CB-FAABBBDA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9A98-B405-4CE1-BFA5-74FCB4D4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1AC8-C8AE-4FBD-9C0B-C8DA29FA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6661-C58E-4D9D-8606-92561758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2B66-3BAA-4402-AD32-C2E52BE3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CC42-D5BE-4887-A262-F3329B57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C7C3-D8BD-4145-8775-648FB343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637A-8A3B-44F5-B271-7861A53E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23CC-D86D-4E82-9716-9133D165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2B48-F891-4BA3-81AE-23A516C1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3AA-7253-4AB8-9F15-FFFADA27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6A84-976E-4689-B1E2-050F055B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83E9-1788-4E9E-83EE-C3E7A39F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2C69-9F82-41CA-A766-4BBA24BE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0F24-302D-4358-B7A2-F72D7AA2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3387-709B-4C34-B9CC-1239E05C8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66E8-BE8F-4546-8E79-D33D36236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ourse 2 Dec. 6th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 the following integers from greatest to least on a numberlin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7, 17, 0, -3, -17, 3, -13,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87840" y="4187880"/>
            <a:ext cx="3259080" cy="162000"/>
          </a:xfrm>
          <a:custGeom>
            <a:avLst/>
            <a:gdLst/>
            <a:ahLst/>
            <a:rect l="l" t="t" r="r" b="b"/>
            <a:pathLst>
              <a:path w="9055" h="448">
                <a:moveTo>
                  <a:pt x="10244" y="11633"/>
                </a:moveTo>
                <a:lnTo>
                  <a:pt x="10244" y="11633"/>
                </a:lnTo>
              </a:path>
              <a:path w="9055" h="448">
                <a:moveTo>
                  <a:pt x="11112" y="11633"/>
                </a:moveTo>
                <a:cubicBezTo>
                  <a:pt x="11102" y="11763"/>
                  <a:pt x="11116" y="12056"/>
                  <a:pt x="10964" y="11981"/>
                </a:cubicBezTo>
              </a:path>
              <a:path w="9055" h="448">
                <a:moveTo>
                  <a:pt x="14585" y="11782"/>
                </a:moveTo>
                <a:cubicBezTo>
                  <a:pt x="14573" y="11902"/>
                  <a:pt x="14562" y="11968"/>
                  <a:pt x="14511" y="12080"/>
                </a:cubicBezTo>
              </a:path>
              <a:path w="9055" h="448">
                <a:moveTo>
                  <a:pt x="19298" y="11708"/>
                </a:moveTo>
                <a:cubicBezTo>
                  <a:pt x="19293" y="11834"/>
                  <a:pt x="19291" y="11914"/>
                  <a:pt x="19248" y="120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79920" y="3929040"/>
            <a:ext cx="276120" cy="268200"/>
          </a:xfrm>
          <a:custGeom>
            <a:avLst/>
            <a:gdLst/>
            <a:ahLst/>
            <a:rect l="l" t="t" r="r" b="b"/>
            <a:pathLst>
              <a:path w="769" h="745">
                <a:moveTo>
                  <a:pt x="10244" y="10939"/>
                </a:moveTo>
                <a:cubicBezTo>
                  <a:pt x="10219" y="11146"/>
                  <a:pt x="10220" y="11350"/>
                  <a:pt x="10220" y="11559"/>
                </a:cubicBezTo>
                <a:cubicBezTo>
                  <a:pt x="10220" y="11711"/>
                  <a:pt x="10217" y="11647"/>
                  <a:pt x="10269" y="11534"/>
                </a:cubicBezTo>
              </a:path>
              <a:path w="769" h="745">
                <a:moveTo>
                  <a:pt x="10517" y="10988"/>
                </a:moveTo>
                <a:cubicBezTo>
                  <a:pt x="10626" y="10948"/>
                  <a:pt x="10768" y="10962"/>
                  <a:pt x="10889" y="10939"/>
                </a:cubicBezTo>
                <a:cubicBezTo>
                  <a:pt x="10947" y="10920"/>
                  <a:pt x="10953" y="10911"/>
                  <a:pt x="10988" y="10914"/>
                </a:cubicBezTo>
                <a:cubicBezTo>
                  <a:pt x="10945" y="11131"/>
                  <a:pt x="10843" y="11327"/>
                  <a:pt x="10765" y="11534"/>
                </a:cubicBezTo>
                <a:cubicBezTo>
                  <a:pt x="10745" y="11595"/>
                  <a:pt x="10747" y="11609"/>
                  <a:pt x="10716" y="116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43240" y="3946680"/>
            <a:ext cx="349560" cy="349200"/>
          </a:xfrm>
          <a:custGeom>
            <a:avLst/>
            <a:gdLst/>
            <a:ahLst/>
            <a:rect l="l" t="t" r="r" b="b"/>
            <a:pathLst>
              <a:path w="969" h="968">
                <a:moveTo>
                  <a:pt x="11509" y="11212"/>
                </a:moveTo>
                <a:cubicBezTo>
                  <a:pt x="11509" y="11222"/>
                  <a:pt x="11497" y="11801"/>
                  <a:pt x="11534" y="11584"/>
                </a:cubicBezTo>
              </a:path>
              <a:path w="969" h="968">
                <a:moveTo>
                  <a:pt x="11733" y="11038"/>
                </a:moveTo>
                <a:cubicBezTo>
                  <a:pt x="11830" y="10998"/>
                  <a:pt x="12090" y="10872"/>
                  <a:pt x="12129" y="11063"/>
                </a:cubicBezTo>
                <a:cubicBezTo>
                  <a:pt x="12150" y="11165"/>
                  <a:pt x="12039" y="11228"/>
                  <a:pt x="11981" y="11286"/>
                </a:cubicBezTo>
                <a:cubicBezTo>
                  <a:pt x="12015" y="11201"/>
                  <a:pt x="12037" y="11220"/>
                  <a:pt x="12129" y="11187"/>
                </a:cubicBezTo>
                <a:cubicBezTo>
                  <a:pt x="12253" y="11335"/>
                  <a:pt x="12271" y="11486"/>
                  <a:pt x="12055" y="11584"/>
                </a:cubicBezTo>
                <a:cubicBezTo>
                  <a:pt x="11948" y="11606"/>
                  <a:pt x="11924" y="11614"/>
                  <a:pt x="11857" y="11609"/>
                </a:cubicBezTo>
              </a:path>
              <a:path w="969" h="968">
                <a:moveTo>
                  <a:pt x="12427" y="11633"/>
                </a:moveTo>
                <a:cubicBezTo>
                  <a:pt x="12432" y="11657"/>
                  <a:pt x="12452" y="12025"/>
                  <a:pt x="12452" y="118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33920" y="3938760"/>
            <a:ext cx="223920" cy="384120"/>
          </a:xfrm>
          <a:custGeom>
            <a:avLst/>
            <a:gdLst/>
            <a:ahLst/>
            <a:rect l="l" t="t" r="r" b="b"/>
            <a:pathLst>
              <a:path w="621" h="1067">
                <a:moveTo>
                  <a:pt x="12898" y="11038"/>
                </a:moveTo>
                <a:cubicBezTo>
                  <a:pt x="12785" y="10999"/>
                  <a:pt x="13068" y="10939"/>
                  <a:pt x="13072" y="10939"/>
                </a:cubicBezTo>
                <a:cubicBezTo>
                  <a:pt x="13349" y="10939"/>
                  <a:pt x="13153" y="11200"/>
                  <a:pt x="13072" y="11286"/>
                </a:cubicBezTo>
                <a:cubicBezTo>
                  <a:pt x="12954" y="11333"/>
                  <a:pt x="13115" y="11226"/>
                  <a:pt x="13171" y="11286"/>
                </a:cubicBezTo>
                <a:cubicBezTo>
                  <a:pt x="13283" y="11406"/>
                  <a:pt x="13139" y="11576"/>
                  <a:pt x="13022" y="11609"/>
                </a:cubicBezTo>
                <a:cubicBezTo>
                  <a:pt x="12989" y="11609"/>
                  <a:pt x="12956" y="11609"/>
                  <a:pt x="12923" y="11609"/>
                </a:cubicBezTo>
              </a:path>
              <a:path w="621" h="1067">
                <a:moveTo>
                  <a:pt x="13494" y="11658"/>
                </a:moveTo>
                <a:cubicBezTo>
                  <a:pt x="13494" y="11822"/>
                  <a:pt x="13486" y="11878"/>
                  <a:pt x="13395" y="120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83120" y="3973680"/>
            <a:ext cx="169920" cy="295200"/>
          </a:xfrm>
          <a:custGeom>
            <a:avLst/>
            <a:gdLst/>
            <a:ahLst/>
            <a:rect l="l" t="t" r="r" b="b"/>
            <a:pathLst>
              <a:path w="472" h="820">
                <a:moveTo>
                  <a:pt x="14188" y="11038"/>
                </a:moveTo>
                <a:cubicBezTo>
                  <a:pt x="14060" y="11038"/>
                  <a:pt x="13950" y="11304"/>
                  <a:pt x="13915" y="11385"/>
                </a:cubicBezTo>
                <a:cubicBezTo>
                  <a:pt x="13850" y="11582"/>
                  <a:pt x="13821" y="11628"/>
                  <a:pt x="13866" y="11757"/>
                </a:cubicBezTo>
                <a:cubicBezTo>
                  <a:pt x="14100" y="11881"/>
                  <a:pt x="14294" y="11808"/>
                  <a:pt x="14312" y="11485"/>
                </a:cubicBezTo>
                <a:cubicBezTo>
                  <a:pt x="14324" y="11268"/>
                  <a:pt x="14267" y="11166"/>
                  <a:pt x="14064" y="111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11880" y="3938760"/>
            <a:ext cx="411120" cy="374400"/>
          </a:xfrm>
          <a:custGeom>
            <a:avLst/>
            <a:gdLst/>
            <a:ahLst/>
            <a:rect l="l" t="t" r="r" b="b"/>
            <a:pathLst>
              <a:path w="1142" h="1043">
                <a:moveTo>
                  <a:pt x="15032" y="11361"/>
                </a:moveTo>
                <a:cubicBezTo>
                  <a:pt x="15057" y="11437"/>
                  <a:pt x="15194" y="11356"/>
                  <a:pt x="15255" y="11361"/>
                </a:cubicBezTo>
                <a:cubicBezTo>
                  <a:pt x="15271" y="11369"/>
                  <a:pt x="15288" y="11377"/>
                  <a:pt x="15304" y="11385"/>
                </a:cubicBezTo>
              </a:path>
              <a:path w="1142" h="1043">
                <a:moveTo>
                  <a:pt x="15478" y="11063"/>
                </a:moveTo>
                <a:cubicBezTo>
                  <a:pt x="15596" y="10974"/>
                  <a:pt x="15639" y="10964"/>
                  <a:pt x="15776" y="10964"/>
                </a:cubicBezTo>
                <a:cubicBezTo>
                  <a:pt x="15889" y="11119"/>
                  <a:pt x="15802" y="11183"/>
                  <a:pt x="15652" y="11311"/>
                </a:cubicBezTo>
                <a:cubicBezTo>
                  <a:pt x="15781" y="11267"/>
                  <a:pt x="15923" y="11353"/>
                  <a:pt x="15825" y="11534"/>
                </a:cubicBezTo>
                <a:cubicBezTo>
                  <a:pt x="15749" y="11674"/>
                  <a:pt x="15628" y="11666"/>
                  <a:pt x="15503" y="11658"/>
                </a:cubicBezTo>
              </a:path>
              <a:path w="1142" h="1043">
                <a:moveTo>
                  <a:pt x="16173" y="11683"/>
                </a:moveTo>
                <a:cubicBezTo>
                  <a:pt x="16160" y="11823"/>
                  <a:pt x="16159" y="11859"/>
                  <a:pt x="16098" y="119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73840" y="3938760"/>
            <a:ext cx="884160" cy="436320"/>
          </a:xfrm>
          <a:custGeom>
            <a:avLst/>
            <a:gdLst/>
            <a:ahLst/>
            <a:rect l="l" t="t" r="r" b="b"/>
            <a:pathLst>
              <a:path w="2457" h="1216">
                <a:moveTo>
                  <a:pt x="16594" y="11212"/>
                </a:moveTo>
                <a:cubicBezTo>
                  <a:pt x="16685" y="11212"/>
                  <a:pt x="16776" y="11212"/>
                  <a:pt x="16867" y="11212"/>
                </a:cubicBezTo>
              </a:path>
              <a:path w="2457" h="1216">
                <a:moveTo>
                  <a:pt x="17066" y="11013"/>
                </a:moveTo>
                <a:cubicBezTo>
                  <a:pt x="17088" y="10945"/>
                  <a:pt x="17191" y="10944"/>
                  <a:pt x="17264" y="10939"/>
                </a:cubicBezTo>
                <a:cubicBezTo>
                  <a:pt x="17331" y="10935"/>
                  <a:pt x="17392" y="10937"/>
                  <a:pt x="17388" y="11013"/>
                </a:cubicBezTo>
                <a:cubicBezTo>
                  <a:pt x="17377" y="11229"/>
                  <a:pt x="17275" y="11416"/>
                  <a:pt x="17264" y="11633"/>
                </a:cubicBezTo>
                <a:cubicBezTo>
                  <a:pt x="17264" y="11641"/>
                  <a:pt x="17264" y="11650"/>
                  <a:pt x="17264" y="11658"/>
                </a:cubicBezTo>
              </a:path>
              <a:path w="2457" h="1216">
                <a:moveTo>
                  <a:pt x="17760" y="11906"/>
                </a:moveTo>
                <a:cubicBezTo>
                  <a:pt x="17760" y="12025"/>
                  <a:pt x="17756" y="12064"/>
                  <a:pt x="17686" y="12154"/>
                </a:cubicBezTo>
              </a:path>
              <a:path w="2457" h="1216">
                <a:moveTo>
                  <a:pt x="17983" y="11286"/>
                </a:moveTo>
                <a:cubicBezTo>
                  <a:pt x="18058" y="11297"/>
                  <a:pt x="18133" y="11317"/>
                  <a:pt x="18207" y="11336"/>
                </a:cubicBezTo>
              </a:path>
              <a:path w="2457" h="1216">
                <a:moveTo>
                  <a:pt x="18430" y="11112"/>
                </a:moveTo>
                <a:cubicBezTo>
                  <a:pt x="18441" y="11297"/>
                  <a:pt x="18442" y="11544"/>
                  <a:pt x="18504" y="11708"/>
                </a:cubicBezTo>
              </a:path>
              <a:path w="2457" h="1216">
                <a:moveTo>
                  <a:pt x="18703" y="11063"/>
                </a:moveTo>
                <a:cubicBezTo>
                  <a:pt x="18852" y="11020"/>
                  <a:pt x="18882" y="11016"/>
                  <a:pt x="19025" y="11088"/>
                </a:cubicBezTo>
                <a:cubicBezTo>
                  <a:pt x="19017" y="11111"/>
                  <a:pt x="18849" y="11429"/>
                  <a:pt x="18827" y="11336"/>
                </a:cubicBezTo>
                <a:cubicBezTo>
                  <a:pt x="18835" y="11328"/>
                  <a:pt x="18844" y="11319"/>
                  <a:pt x="18852" y="11311"/>
                </a:cubicBezTo>
                <a:cubicBezTo>
                  <a:pt x="18960" y="11275"/>
                  <a:pt x="19097" y="11309"/>
                  <a:pt x="19050" y="11485"/>
                </a:cubicBezTo>
                <a:cubicBezTo>
                  <a:pt x="19013" y="11624"/>
                  <a:pt x="18851" y="11634"/>
                  <a:pt x="18802" y="115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45200" y="4054320"/>
            <a:ext cx="63720" cy="1800"/>
          </a:xfrm>
          <a:custGeom>
            <a:avLst/>
            <a:gdLst/>
            <a:ahLst/>
            <a:rect l="l" t="t" r="r" b="b"/>
            <a:pathLst>
              <a:path w="175" h="1">
                <a:moveTo>
                  <a:pt x="19571" y="11261"/>
                </a:moveTo>
                <a:cubicBezTo>
                  <a:pt x="19629" y="11261"/>
                  <a:pt x="19687" y="11261"/>
                  <a:pt x="19745" y="112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32760" y="3956040"/>
            <a:ext cx="260280" cy="303120"/>
          </a:xfrm>
          <a:custGeom>
            <a:avLst/>
            <a:gdLst/>
            <a:ahLst/>
            <a:rect l="l" t="t" r="r" b="b"/>
            <a:pathLst>
              <a:path w="720" h="845">
                <a:moveTo>
                  <a:pt x="20092" y="11063"/>
                </a:moveTo>
                <a:cubicBezTo>
                  <a:pt x="20092" y="10972"/>
                  <a:pt x="20092" y="11195"/>
                  <a:pt x="20092" y="11286"/>
                </a:cubicBezTo>
                <a:cubicBezTo>
                  <a:pt x="20092" y="11446"/>
                  <a:pt x="20106" y="11579"/>
                  <a:pt x="20117" y="11733"/>
                </a:cubicBezTo>
              </a:path>
              <a:path w="720" h="845">
                <a:moveTo>
                  <a:pt x="20290" y="11038"/>
                </a:moveTo>
                <a:cubicBezTo>
                  <a:pt x="20406" y="10980"/>
                  <a:pt x="20578" y="10991"/>
                  <a:pt x="20712" y="10988"/>
                </a:cubicBezTo>
                <a:cubicBezTo>
                  <a:pt x="20770" y="10988"/>
                  <a:pt x="20778" y="10988"/>
                  <a:pt x="20811" y="10988"/>
                </a:cubicBezTo>
                <a:cubicBezTo>
                  <a:pt x="20811" y="11144"/>
                  <a:pt x="20760" y="11309"/>
                  <a:pt x="20737" y="11460"/>
                </a:cubicBezTo>
                <a:cubicBezTo>
                  <a:pt x="20719" y="11577"/>
                  <a:pt x="20687" y="11712"/>
                  <a:pt x="20687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2000" y="5464080"/>
            <a:ext cx="2813040" cy="723960"/>
          </a:xfrm>
          <a:custGeom>
            <a:avLst/>
            <a:gdLst/>
            <a:ahLst/>
            <a:rect l="l" t="t" r="r" b="b"/>
            <a:pathLst>
              <a:path w="7814" h="2011">
                <a:moveTo>
                  <a:pt x="2952" y="17190"/>
                </a:moveTo>
                <a:cubicBezTo>
                  <a:pt x="3007" y="17171"/>
                  <a:pt x="3067" y="17139"/>
                  <a:pt x="3125" y="17115"/>
                </a:cubicBezTo>
              </a:path>
              <a:path w="7814" h="2011">
                <a:moveTo>
                  <a:pt x="5457" y="16619"/>
                </a:moveTo>
                <a:cubicBezTo>
                  <a:pt x="5474" y="16729"/>
                  <a:pt x="5484" y="16835"/>
                  <a:pt x="5507" y="16942"/>
                </a:cubicBezTo>
              </a:path>
              <a:path w="7814" h="2011">
                <a:moveTo>
                  <a:pt x="5730" y="16619"/>
                </a:moveTo>
                <a:cubicBezTo>
                  <a:pt x="5801" y="16572"/>
                  <a:pt x="5870" y="16512"/>
                  <a:pt x="5953" y="16495"/>
                </a:cubicBezTo>
              </a:path>
              <a:path w="7814" h="2011">
                <a:moveTo>
                  <a:pt x="10666" y="15255"/>
                </a:moveTo>
                <a:cubicBezTo>
                  <a:pt x="10689" y="15216"/>
                  <a:pt x="10716" y="15196"/>
                  <a:pt x="10765" y="15180"/>
                </a:cubicBezTo>
              </a:path>
              <a:path w="7814" h="2011">
                <a:moveTo>
                  <a:pt x="4390" y="15304"/>
                </a:moveTo>
                <a:cubicBezTo>
                  <a:pt x="4425" y="15304"/>
                  <a:pt x="4443" y="15300"/>
                  <a:pt x="4465" y="15280"/>
                </a:cubicBezTo>
              </a:path>
              <a:path w="7814" h="2011">
                <a:moveTo>
                  <a:pt x="6102" y="15627"/>
                </a:moveTo>
                <a:cubicBezTo>
                  <a:pt x="6112" y="15565"/>
                  <a:pt x="6129" y="15480"/>
                  <a:pt x="6176" y="155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0800" y="4464000"/>
            <a:ext cx="1563480" cy="1849320"/>
          </a:xfrm>
          <a:custGeom>
            <a:avLst/>
            <a:gdLst/>
            <a:ahLst/>
            <a:rect l="l" t="t" r="r" b="b"/>
            <a:pathLst>
              <a:path w="4342" h="5136">
                <a:moveTo>
                  <a:pt x="3274" y="15726"/>
                </a:moveTo>
                <a:cubicBezTo>
                  <a:pt x="3174" y="15878"/>
                  <a:pt x="3084" y="16048"/>
                  <a:pt x="2927" y="16148"/>
                </a:cubicBezTo>
                <a:cubicBezTo>
                  <a:pt x="2908" y="16160"/>
                  <a:pt x="2859" y="16145"/>
                  <a:pt x="2902" y="16123"/>
                </a:cubicBezTo>
                <a:cubicBezTo>
                  <a:pt x="3038" y="16186"/>
                  <a:pt x="3218" y="16195"/>
                  <a:pt x="3349" y="16272"/>
                </a:cubicBezTo>
                <a:cubicBezTo>
                  <a:pt x="3359" y="16278"/>
                  <a:pt x="3392" y="16305"/>
                  <a:pt x="3398" y="16321"/>
                </a:cubicBezTo>
              </a:path>
              <a:path w="4342" h="5136">
                <a:moveTo>
                  <a:pt x="3522" y="15999"/>
                </a:moveTo>
                <a:cubicBezTo>
                  <a:pt x="3522" y="15932"/>
                  <a:pt x="3522" y="16038"/>
                  <a:pt x="3522" y="16049"/>
                </a:cubicBezTo>
                <a:cubicBezTo>
                  <a:pt x="3522" y="16195"/>
                  <a:pt x="3567" y="16346"/>
                  <a:pt x="3572" y="16495"/>
                </a:cubicBezTo>
                <a:cubicBezTo>
                  <a:pt x="3572" y="16537"/>
                  <a:pt x="3572" y="16562"/>
                  <a:pt x="3572" y="16520"/>
                </a:cubicBezTo>
                <a:cubicBezTo>
                  <a:pt x="3572" y="16441"/>
                  <a:pt x="3591" y="16372"/>
                  <a:pt x="3597" y="16297"/>
                </a:cubicBezTo>
                <a:cubicBezTo>
                  <a:pt x="3599" y="16272"/>
                  <a:pt x="3601" y="15957"/>
                  <a:pt x="3572" y="16024"/>
                </a:cubicBezTo>
                <a:cubicBezTo>
                  <a:pt x="3572" y="16032"/>
                  <a:pt x="3572" y="16041"/>
                  <a:pt x="3572" y="16049"/>
                </a:cubicBezTo>
              </a:path>
              <a:path w="4342" h="5136">
                <a:moveTo>
                  <a:pt x="3398" y="16942"/>
                </a:moveTo>
                <a:cubicBezTo>
                  <a:pt x="3510" y="16897"/>
                  <a:pt x="3601" y="16789"/>
                  <a:pt x="3696" y="16966"/>
                </a:cubicBezTo>
                <a:cubicBezTo>
                  <a:pt x="3804" y="17166"/>
                  <a:pt x="3628" y="17478"/>
                  <a:pt x="3423" y="17537"/>
                </a:cubicBezTo>
                <a:cubicBezTo>
                  <a:pt x="3398" y="17529"/>
                  <a:pt x="3374" y="17520"/>
                  <a:pt x="3349" y="17512"/>
                </a:cubicBezTo>
                <a:cubicBezTo>
                  <a:pt x="3341" y="17390"/>
                  <a:pt x="3355" y="17194"/>
                  <a:pt x="3547" y="17239"/>
                </a:cubicBezTo>
                <a:cubicBezTo>
                  <a:pt x="3672" y="17268"/>
                  <a:pt x="3663" y="17404"/>
                  <a:pt x="3770" y="17388"/>
                </a:cubicBezTo>
              </a:path>
              <a:path w="4342" h="5136">
                <a:moveTo>
                  <a:pt x="3944" y="16991"/>
                </a:moveTo>
                <a:cubicBezTo>
                  <a:pt x="3859" y="17149"/>
                  <a:pt x="3865" y="17282"/>
                  <a:pt x="3894" y="17462"/>
                </a:cubicBezTo>
                <a:cubicBezTo>
                  <a:pt x="4076" y="17463"/>
                  <a:pt x="4146" y="17364"/>
                  <a:pt x="4093" y="17165"/>
                </a:cubicBezTo>
                <a:cubicBezTo>
                  <a:pt x="4049" y="16999"/>
                  <a:pt x="3946" y="17053"/>
                  <a:pt x="3820" y="17066"/>
                </a:cubicBezTo>
              </a:path>
              <a:path w="4342" h="5136">
                <a:moveTo>
                  <a:pt x="5432" y="15751"/>
                </a:moveTo>
                <a:cubicBezTo>
                  <a:pt x="5459" y="15886"/>
                  <a:pt x="5473" y="16036"/>
                  <a:pt x="5507" y="16173"/>
                </a:cubicBezTo>
                <a:cubicBezTo>
                  <a:pt x="5515" y="16189"/>
                  <a:pt x="5523" y="16206"/>
                  <a:pt x="5531" y="16222"/>
                </a:cubicBezTo>
                <a:cubicBezTo>
                  <a:pt x="5531" y="16139"/>
                  <a:pt x="5531" y="16057"/>
                  <a:pt x="5531" y="15974"/>
                </a:cubicBezTo>
              </a:path>
              <a:path w="4342" h="5136">
                <a:moveTo>
                  <a:pt x="5060" y="16818"/>
                </a:moveTo>
                <a:cubicBezTo>
                  <a:pt x="5126" y="16818"/>
                  <a:pt x="5193" y="16818"/>
                  <a:pt x="5259" y="16818"/>
                </a:cubicBezTo>
              </a:path>
              <a:path w="4342" h="5136">
                <a:moveTo>
                  <a:pt x="5705" y="16570"/>
                </a:moveTo>
                <a:cubicBezTo>
                  <a:pt x="5705" y="16621"/>
                  <a:pt x="5688" y="16655"/>
                  <a:pt x="5730" y="16669"/>
                </a:cubicBezTo>
                <a:cubicBezTo>
                  <a:pt x="5832" y="16703"/>
                  <a:pt x="5916" y="16703"/>
                  <a:pt x="5904" y="16842"/>
                </a:cubicBezTo>
                <a:cubicBezTo>
                  <a:pt x="5898" y="16913"/>
                  <a:pt x="5830" y="16908"/>
                  <a:pt x="5779" y="16917"/>
                </a:cubicBezTo>
              </a:path>
              <a:path w="4342" h="5136">
                <a:moveTo>
                  <a:pt x="2977" y="12402"/>
                </a:moveTo>
                <a:cubicBezTo>
                  <a:pt x="2900" y="12572"/>
                  <a:pt x="2808" y="12749"/>
                  <a:pt x="2729" y="12923"/>
                </a:cubicBezTo>
                <a:cubicBezTo>
                  <a:pt x="2581" y="13247"/>
                  <a:pt x="2488" y="13596"/>
                  <a:pt x="2332" y="13915"/>
                </a:cubicBezTo>
                <a:cubicBezTo>
                  <a:pt x="2264" y="14054"/>
                  <a:pt x="2298" y="13975"/>
                  <a:pt x="2307" y="14039"/>
                </a:cubicBezTo>
              </a:path>
              <a:path w="4342" h="5136">
                <a:moveTo>
                  <a:pt x="4614" y="15974"/>
                </a:moveTo>
                <a:cubicBezTo>
                  <a:pt x="4635" y="15967"/>
                  <a:pt x="4653" y="15931"/>
                  <a:pt x="4663" y="15900"/>
                </a:cubicBezTo>
                <a:cubicBezTo>
                  <a:pt x="4672" y="15872"/>
                  <a:pt x="4666" y="15811"/>
                  <a:pt x="4688" y="15875"/>
                </a:cubicBezTo>
                <a:cubicBezTo>
                  <a:pt x="4710" y="15941"/>
                  <a:pt x="4713" y="15981"/>
                  <a:pt x="4713" y="16049"/>
                </a:cubicBezTo>
                <a:cubicBezTo>
                  <a:pt x="4713" y="15974"/>
                  <a:pt x="4713" y="15950"/>
                  <a:pt x="4713" y="15900"/>
                </a:cubicBezTo>
                <a:cubicBezTo>
                  <a:pt x="4713" y="15998"/>
                  <a:pt x="4724" y="16078"/>
                  <a:pt x="4738" y="16173"/>
                </a:cubicBezTo>
                <a:cubicBezTo>
                  <a:pt x="4738" y="16127"/>
                  <a:pt x="4747" y="16007"/>
                  <a:pt x="4713" y="15974"/>
                </a:cubicBezTo>
                <a:cubicBezTo>
                  <a:pt x="4612" y="15877"/>
                  <a:pt x="4694" y="16485"/>
                  <a:pt x="4713" y="16346"/>
                </a:cubicBezTo>
                <a:cubicBezTo>
                  <a:pt x="4736" y="16190"/>
                  <a:pt x="4744" y="16149"/>
                  <a:pt x="4738" y="16049"/>
                </a:cubicBezTo>
                <a:cubicBezTo>
                  <a:pt x="4738" y="16008"/>
                  <a:pt x="4738" y="16164"/>
                  <a:pt x="4738" y="16123"/>
                </a:cubicBezTo>
                <a:cubicBezTo>
                  <a:pt x="4738" y="16080"/>
                  <a:pt x="4743" y="16055"/>
                  <a:pt x="4762" y="16024"/>
                </a:cubicBezTo>
              </a:path>
              <a:path w="4342" h="5136">
                <a:moveTo>
                  <a:pt x="4614" y="14982"/>
                </a:moveTo>
                <a:cubicBezTo>
                  <a:pt x="4619" y="15101"/>
                  <a:pt x="4607" y="15270"/>
                  <a:pt x="4663" y="15379"/>
                </a:cubicBezTo>
                <a:cubicBezTo>
                  <a:pt x="4663" y="15371"/>
                  <a:pt x="4663" y="15362"/>
                  <a:pt x="4663" y="15354"/>
                </a:cubicBezTo>
              </a:path>
              <a:path w="4342" h="5136">
                <a:moveTo>
                  <a:pt x="4713" y="14908"/>
                </a:moveTo>
                <a:cubicBezTo>
                  <a:pt x="4743" y="14847"/>
                  <a:pt x="4837" y="14805"/>
                  <a:pt x="4911" y="14784"/>
                </a:cubicBezTo>
                <a:cubicBezTo>
                  <a:pt x="5052" y="14743"/>
                  <a:pt x="5060" y="15003"/>
                  <a:pt x="5060" y="15081"/>
                </a:cubicBezTo>
                <a:cubicBezTo>
                  <a:pt x="5039" y="15205"/>
                  <a:pt x="5031" y="15229"/>
                  <a:pt x="5035" y="15304"/>
                </a:cubicBezTo>
              </a:path>
              <a:path w="4342" h="5136">
                <a:moveTo>
                  <a:pt x="6350" y="15925"/>
                </a:moveTo>
                <a:cubicBezTo>
                  <a:pt x="6330" y="15899"/>
                  <a:pt x="6304" y="15863"/>
                  <a:pt x="6300" y="15900"/>
                </a:cubicBezTo>
                <a:cubicBezTo>
                  <a:pt x="6300" y="16007"/>
                  <a:pt x="6300" y="16032"/>
                  <a:pt x="6300" y="16098"/>
                </a:cubicBezTo>
                <a:cubicBezTo>
                  <a:pt x="6300" y="16106"/>
                  <a:pt x="6300" y="16115"/>
                  <a:pt x="6300" y="16123"/>
                </a:cubicBezTo>
                <a:cubicBezTo>
                  <a:pt x="6300" y="16065"/>
                  <a:pt x="6300" y="16007"/>
                  <a:pt x="6300" y="15949"/>
                </a:cubicBezTo>
                <a:cubicBezTo>
                  <a:pt x="6315" y="16042"/>
                  <a:pt x="6325" y="16125"/>
                  <a:pt x="6325" y="16222"/>
                </a:cubicBezTo>
                <a:cubicBezTo>
                  <a:pt x="6325" y="16247"/>
                  <a:pt x="6325" y="16255"/>
                  <a:pt x="6325" y="16272"/>
                </a:cubicBezTo>
              </a:path>
              <a:path w="4342" h="5136">
                <a:moveTo>
                  <a:pt x="6226" y="15156"/>
                </a:moveTo>
                <a:cubicBezTo>
                  <a:pt x="6255" y="15284"/>
                  <a:pt x="6317" y="15401"/>
                  <a:pt x="6350" y="15528"/>
                </a:cubicBezTo>
                <a:cubicBezTo>
                  <a:pt x="6350" y="15563"/>
                  <a:pt x="6355" y="15562"/>
                  <a:pt x="6375" y="15503"/>
                </a:cubicBezTo>
              </a:path>
              <a:path w="4342" h="5136">
                <a:moveTo>
                  <a:pt x="6375" y="15081"/>
                </a:moveTo>
                <a:cubicBezTo>
                  <a:pt x="6395" y="14982"/>
                  <a:pt x="6381" y="15003"/>
                  <a:pt x="6474" y="14957"/>
                </a:cubicBezTo>
                <a:cubicBezTo>
                  <a:pt x="6501" y="15046"/>
                  <a:pt x="6492" y="15094"/>
                  <a:pt x="6474" y="15180"/>
                </a:cubicBezTo>
                <a:cubicBezTo>
                  <a:pt x="6474" y="15131"/>
                  <a:pt x="6524" y="15058"/>
                  <a:pt x="6573" y="15131"/>
                </a:cubicBezTo>
                <a:cubicBezTo>
                  <a:pt x="6637" y="15227"/>
                  <a:pt x="6641" y="15370"/>
                  <a:pt x="6524" y="15429"/>
                </a:cubicBezTo>
                <a:cubicBezTo>
                  <a:pt x="6492" y="15445"/>
                  <a:pt x="6499" y="15431"/>
                  <a:pt x="6499" y="154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33760" y="4464000"/>
            <a:ext cx="2965320" cy="1751040"/>
          </a:xfrm>
          <a:custGeom>
            <a:avLst/>
            <a:gdLst/>
            <a:ahLst/>
            <a:rect l="l" t="t" r="r" b="b"/>
            <a:pathLst>
              <a:path w="8237" h="4863">
                <a:moveTo>
                  <a:pt x="12452" y="15602"/>
                </a:moveTo>
                <a:cubicBezTo>
                  <a:pt x="12452" y="15502"/>
                  <a:pt x="12440" y="15702"/>
                  <a:pt x="12427" y="15801"/>
                </a:cubicBezTo>
                <a:cubicBezTo>
                  <a:pt x="12407" y="15942"/>
                  <a:pt x="12408" y="15969"/>
                  <a:pt x="12378" y="16049"/>
                </a:cubicBezTo>
                <a:cubicBezTo>
                  <a:pt x="12405" y="15884"/>
                  <a:pt x="12378" y="15681"/>
                  <a:pt x="12378" y="15503"/>
                </a:cubicBezTo>
                <a:cubicBezTo>
                  <a:pt x="12378" y="15478"/>
                  <a:pt x="12378" y="15454"/>
                  <a:pt x="12378" y="15429"/>
                </a:cubicBezTo>
                <a:cubicBezTo>
                  <a:pt x="12396" y="15596"/>
                  <a:pt x="12402" y="15756"/>
                  <a:pt x="12402" y="15925"/>
                </a:cubicBezTo>
                <a:cubicBezTo>
                  <a:pt x="12402" y="15950"/>
                  <a:pt x="12402" y="15974"/>
                  <a:pt x="12402" y="15999"/>
                </a:cubicBezTo>
              </a:path>
              <a:path w="8237" h="4863">
                <a:moveTo>
                  <a:pt x="12378" y="16470"/>
                </a:moveTo>
                <a:cubicBezTo>
                  <a:pt x="12285" y="16470"/>
                  <a:pt x="12269" y="16499"/>
                  <a:pt x="12229" y="16594"/>
                </a:cubicBezTo>
                <a:cubicBezTo>
                  <a:pt x="12173" y="16728"/>
                  <a:pt x="12104" y="17005"/>
                  <a:pt x="12328" y="17016"/>
                </a:cubicBezTo>
                <a:cubicBezTo>
                  <a:pt x="12512" y="17025"/>
                  <a:pt x="12658" y="16858"/>
                  <a:pt x="12650" y="16694"/>
                </a:cubicBezTo>
                <a:cubicBezTo>
                  <a:pt x="12645" y="16588"/>
                  <a:pt x="12576" y="16495"/>
                  <a:pt x="12477" y="16470"/>
                </a:cubicBezTo>
                <a:cubicBezTo>
                  <a:pt x="12426" y="16457"/>
                  <a:pt x="12396" y="16467"/>
                  <a:pt x="12378" y="16495"/>
                </a:cubicBezTo>
              </a:path>
              <a:path w="8237" h="4863">
                <a:moveTo>
                  <a:pt x="14387" y="15429"/>
                </a:moveTo>
                <a:cubicBezTo>
                  <a:pt x="14410" y="15406"/>
                  <a:pt x="14418" y="15402"/>
                  <a:pt x="14412" y="15379"/>
                </a:cubicBezTo>
                <a:cubicBezTo>
                  <a:pt x="14434" y="15518"/>
                  <a:pt x="14467" y="15660"/>
                  <a:pt x="14486" y="15801"/>
                </a:cubicBezTo>
                <a:cubicBezTo>
                  <a:pt x="14486" y="15809"/>
                  <a:pt x="14486" y="15817"/>
                  <a:pt x="14486" y="15825"/>
                </a:cubicBezTo>
              </a:path>
              <a:path w="8237" h="4863">
                <a:moveTo>
                  <a:pt x="14635" y="16073"/>
                </a:moveTo>
                <a:cubicBezTo>
                  <a:pt x="14615" y="16103"/>
                  <a:pt x="14516" y="16113"/>
                  <a:pt x="14486" y="16148"/>
                </a:cubicBezTo>
                <a:cubicBezTo>
                  <a:pt x="14451" y="16189"/>
                  <a:pt x="14486" y="16336"/>
                  <a:pt x="14486" y="16396"/>
                </a:cubicBezTo>
                <a:cubicBezTo>
                  <a:pt x="14541" y="16396"/>
                  <a:pt x="14589" y="16344"/>
                  <a:pt x="14635" y="16346"/>
                </a:cubicBezTo>
                <a:cubicBezTo>
                  <a:pt x="14805" y="16353"/>
                  <a:pt x="14716" y="16539"/>
                  <a:pt x="14635" y="16594"/>
                </a:cubicBezTo>
                <a:cubicBezTo>
                  <a:pt x="14570" y="16616"/>
                  <a:pt x="14555" y="16624"/>
                  <a:pt x="14511" y="16619"/>
                </a:cubicBezTo>
              </a:path>
              <a:path w="8237" h="4863">
                <a:moveTo>
                  <a:pt x="7739" y="15974"/>
                </a:moveTo>
                <a:cubicBezTo>
                  <a:pt x="7739" y="15941"/>
                  <a:pt x="7739" y="15908"/>
                  <a:pt x="7739" y="15875"/>
                </a:cubicBezTo>
                <a:cubicBezTo>
                  <a:pt x="7678" y="15855"/>
                  <a:pt x="7733" y="15854"/>
                  <a:pt x="7739" y="15949"/>
                </a:cubicBezTo>
                <a:cubicBezTo>
                  <a:pt x="7747" y="16065"/>
                  <a:pt x="7748" y="16138"/>
                  <a:pt x="7764" y="16247"/>
                </a:cubicBezTo>
                <a:cubicBezTo>
                  <a:pt x="7747" y="16097"/>
                  <a:pt x="7720" y="15952"/>
                  <a:pt x="7714" y="15801"/>
                </a:cubicBezTo>
                <a:cubicBezTo>
                  <a:pt x="7714" y="15776"/>
                  <a:pt x="7714" y="15768"/>
                  <a:pt x="7714" y="15801"/>
                </a:cubicBezTo>
              </a:path>
              <a:path w="8237" h="4863">
                <a:moveTo>
                  <a:pt x="7317" y="17016"/>
                </a:moveTo>
                <a:cubicBezTo>
                  <a:pt x="7397" y="17016"/>
                  <a:pt x="7462" y="17001"/>
                  <a:pt x="7541" y="16991"/>
                </a:cubicBezTo>
                <a:cubicBezTo>
                  <a:pt x="7582" y="16991"/>
                  <a:pt x="7590" y="16991"/>
                  <a:pt x="7615" y="16991"/>
                </a:cubicBezTo>
              </a:path>
              <a:path w="8237" h="4863">
                <a:moveTo>
                  <a:pt x="7789" y="16818"/>
                </a:moveTo>
                <a:cubicBezTo>
                  <a:pt x="7838" y="16973"/>
                  <a:pt x="7863" y="17100"/>
                  <a:pt x="7863" y="17264"/>
                </a:cubicBezTo>
              </a:path>
              <a:path w="8237" h="4863">
                <a:moveTo>
                  <a:pt x="8186" y="16743"/>
                </a:moveTo>
                <a:cubicBezTo>
                  <a:pt x="8138" y="16925"/>
                  <a:pt x="8078" y="17051"/>
                  <a:pt x="8161" y="17214"/>
                </a:cubicBezTo>
                <a:cubicBezTo>
                  <a:pt x="8328" y="17228"/>
                  <a:pt x="8423" y="17138"/>
                  <a:pt x="8384" y="16942"/>
                </a:cubicBezTo>
                <a:cubicBezTo>
                  <a:pt x="8351" y="16779"/>
                  <a:pt x="8186" y="16818"/>
                  <a:pt x="8062" y="16818"/>
                </a:cubicBezTo>
              </a:path>
              <a:path w="8237" h="4863">
                <a:moveTo>
                  <a:pt x="9996" y="15677"/>
                </a:moveTo>
                <a:cubicBezTo>
                  <a:pt x="10038" y="15634"/>
                  <a:pt x="10021" y="15896"/>
                  <a:pt x="10021" y="15949"/>
                </a:cubicBezTo>
                <a:cubicBezTo>
                  <a:pt x="10021" y="16011"/>
                  <a:pt x="10012" y="16026"/>
                  <a:pt x="10046" y="16049"/>
                </a:cubicBezTo>
              </a:path>
              <a:path w="8237" h="4863">
                <a:moveTo>
                  <a:pt x="9748" y="16495"/>
                </a:moveTo>
                <a:cubicBezTo>
                  <a:pt x="9817" y="16495"/>
                  <a:pt x="9855" y="16487"/>
                  <a:pt x="9922" y="16470"/>
                </a:cubicBezTo>
              </a:path>
              <a:path w="8237" h="4863">
                <a:moveTo>
                  <a:pt x="10492" y="16247"/>
                </a:moveTo>
                <a:cubicBezTo>
                  <a:pt x="10401" y="16247"/>
                  <a:pt x="10356" y="16280"/>
                  <a:pt x="10269" y="16297"/>
                </a:cubicBezTo>
                <a:cubicBezTo>
                  <a:pt x="10189" y="16312"/>
                  <a:pt x="10216" y="16366"/>
                  <a:pt x="10170" y="16446"/>
                </a:cubicBezTo>
                <a:cubicBezTo>
                  <a:pt x="10245" y="16482"/>
                  <a:pt x="10311" y="16450"/>
                  <a:pt x="10393" y="16470"/>
                </a:cubicBezTo>
                <a:cubicBezTo>
                  <a:pt x="10487" y="16492"/>
                  <a:pt x="10482" y="16593"/>
                  <a:pt x="10418" y="16644"/>
                </a:cubicBezTo>
                <a:cubicBezTo>
                  <a:pt x="10362" y="16688"/>
                  <a:pt x="10289" y="16711"/>
                  <a:pt x="10220" y="16718"/>
                </a:cubicBezTo>
                <a:cubicBezTo>
                  <a:pt x="10212" y="16718"/>
                  <a:pt x="10203" y="16718"/>
                  <a:pt x="10195" y="16718"/>
                </a:cubicBezTo>
              </a:path>
              <a:path w="8237" h="4863">
                <a:moveTo>
                  <a:pt x="9178" y="15850"/>
                </a:moveTo>
                <a:cubicBezTo>
                  <a:pt x="9190" y="15886"/>
                  <a:pt x="9203" y="15890"/>
                  <a:pt x="9203" y="15949"/>
                </a:cubicBezTo>
                <a:cubicBezTo>
                  <a:pt x="9203" y="15999"/>
                  <a:pt x="9203" y="15800"/>
                  <a:pt x="9203" y="15850"/>
                </a:cubicBezTo>
                <a:cubicBezTo>
                  <a:pt x="9203" y="15880"/>
                  <a:pt x="9226" y="16131"/>
                  <a:pt x="9252" y="15974"/>
                </a:cubicBezTo>
                <a:cubicBezTo>
                  <a:pt x="9173" y="15875"/>
                  <a:pt x="9203" y="15923"/>
                  <a:pt x="9203" y="16049"/>
                </a:cubicBezTo>
                <a:cubicBezTo>
                  <a:pt x="9203" y="16090"/>
                  <a:pt x="9195" y="16106"/>
                  <a:pt x="9227" y="16098"/>
                </a:cubicBezTo>
                <a:cubicBezTo>
                  <a:pt x="9227" y="16050"/>
                  <a:pt x="9194" y="15912"/>
                  <a:pt x="9203" y="16024"/>
                </a:cubicBezTo>
                <a:cubicBezTo>
                  <a:pt x="9209" y="16100"/>
                  <a:pt x="9274" y="16249"/>
                  <a:pt x="9277" y="16173"/>
                </a:cubicBezTo>
                <a:cubicBezTo>
                  <a:pt x="9280" y="16079"/>
                  <a:pt x="9289" y="16021"/>
                  <a:pt x="9227" y="15974"/>
                </a:cubicBezTo>
                <a:cubicBezTo>
                  <a:pt x="9227" y="16017"/>
                  <a:pt x="9227" y="16197"/>
                  <a:pt x="9227" y="16148"/>
                </a:cubicBezTo>
                <a:cubicBezTo>
                  <a:pt x="9227" y="16140"/>
                  <a:pt x="9227" y="16131"/>
                  <a:pt x="9227" y="16123"/>
                </a:cubicBezTo>
              </a:path>
              <a:path w="8237" h="4863">
                <a:moveTo>
                  <a:pt x="8905" y="15528"/>
                </a:moveTo>
                <a:cubicBezTo>
                  <a:pt x="8905" y="15520"/>
                  <a:pt x="8905" y="15511"/>
                  <a:pt x="8905" y="15503"/>
                </a:cubicBezTo>
                <a:cubicBezTo>
                  <a:pt x="8938" y="15492"/>
                  <a:pt x="8951" y="15464"/>
                  <a:pt x="9004" y="15453"/>
                </a:cubicBezTo>
              </a:path>
              <a:path w="8237" h="4863">
                <a:moveTo>
                  <a:pt x="8954" y="15131"/>
                </a:moveTo>
                <a:cubicBezTo>
                  <a:pt x="9023" y="15114"/>
                  <a:pt x="9066" y="15042"/>
                  <a:pt x="9128" y="15007"/>
                </a:cubicBezTo>
                <a:cubicBezTo>
                  <a:pt x="9136" y="15007"/>
                  <a:pt x="9145" y="15007"/>
                  <a:pt x="9153" y="15007"/>
                </a:cubicBezTo>
                <a:cubicBezTo>
                  <a:pt x="9179" y="15127"/>
                  <a:pt x="9173" y="15296"/>
                  <a:pt x="9227" y="15404"/>
                </a:cubicBezTo>
                <a:cubicBezTo>
                  <a:pt x="9235" y="15412"/>
                  <a:pt x="9244" y="15421"/>
                  <a:pt x="9252" y="15429"/>
                </a:cubicBezTo>
              </a:path>
              <a:path w="8237" h="4863">
                <a:moveTo>
                  <a:pt x="12254" y="14833"/>
                </a:moveTo>
                <a:cubicBezTo>
                  <a:pt x="12254" y="14785"/>
                  <a:pt x="12246" y="14981"/>
                  <a:pt x="12303" y="15032"/>
                </a:cubicBezTo>
                <a:cubicBezTo>
                  <a:pt x="12429" y="15145"/>
                  <a:pt x="12547" y="14972"/>
                  <a:pt x="12551" y="14858"/>
                </a:cubicBezTo>
                <a:cubicBezTo>
                  <a:pt x="12543" y="14841"/>
                  <a:pt x="12534" y="14825"/>
                  <a:pt x="12526" y="14808"/>
                </a:cubicBezTo>
                <a:cubicBezTo>
                  <a:pt x="12469" y="14790"/>
                  <a:pt x="12338" y="14752"/>
                  <a:pt x="12278" y="14784"/>
                </a:cubicBezTo>
                <a:cubicBezTo>
                  <a:pt x="12278" y="14792"/>
                  <a:pt x="12278" y="14800"/>
                  <a:pt x="12278" y="14808"/>
                </a:cubicBezTo>
              </a:path>
              <a:path w="8237" h="4863">
                <a:moveTo>
                  <a:pt x="11063" y="15726"/>
                </a:moveTo>
                <a:cubicBezTo>
                  <a:pt x="11063" y="15694"/>
                  <a:pt x="11041" y="15641"/>
                  <a:pt x="11038" y="15701"/>
                </a:cubicBezTo>
                <a:cubicBezTo>
                  <a:pt x="11035" y="15767"/>
                  <a:pt x="11038" y="15916"/>
                  <a:pt x="11038" y="15850"/>
                </a:cubicBezTo>
                <a:cubicBezTo>
                  <a:pt x="11038" y="15779"/>
                  <a:pt x="11063" y="15722"/>
                  <a:pt x="11063" y="15652"/>
                </a:cubicBezTo>
                <a:cubicBezTo>
                  <a:pt x="11045" y="15761"/>
                  <a:pt x="11038" y="15861"/>
                  <a:pt x="11038" y="15974"/>
                </a:cubicBezTo>
                <a:cubicBezTo>
                  <a:pt x="11038" y="16052"/>
                  <a:pt x="11038" y="15752"/>
                  <a:pt x="11038" y="15751"/>
                </a:cubicBezTo>
                <a:cubicBezTo>
                  <a:pt x="11038" y="15552"/>
                  <a:pt x="11015" y="15865"/>
                  <a:pt x="11013" y="15875"/>
                </a:cubicBezTo>
                <a:cubicBezTo>
                  <a:pt x="11005" y="15908"/>
                  <a:pt x="10996" y="15941"/>
                  <a:pt x="10988" y="15974"/>
                </a:cubicBezTo>
                <a:cubicBezTo>
                  <a:pt x="10988" y="16015"/>
                  <a:pt x="10964" y="15933"/>
                  <a:pt x="10988" y="15900"/>
                </a:cubicBezTo>
                <a:cubicBezTo>
                  <a:pt x="11013" y="15900"/>
                  <a:pt x="11021" y="15900"/>
                  <a:pt x="11013" y="15875"/>
                </a:cubicBezTo>
              </a:path>
              <a:path w="8237" h="4863">
                <a:moveTo>
                  <a:pt x="10889" y="14908"/>
                </a:moveTo>
                <a:cubicBezTo>
                  <a:pt x="10846" y="14894"/>
                  <a:pt x="10879" y="14873"/>
                  <a:pt x="10914" y="14833"/>
                </a:cubicBezTo>
                <a:cubicBezTo>
                  <a:pt x="10953" y="14795"/>
                  <a:pt x="10954" y="14778"/>
                  <a:pt x="10988" y="14784"/>
                </a:cubicBezTo>
                <a:cubicBezTo>
                  <a:pt x="10980" y="14870"/>
                  <a:pt x="10963" y="14996"/>
                  <a:pt x="10889" y="15056"/>
                </a:cubicBezTo>
                <a:cubicBezTo>
                  <a:pt x="10889" y="15048"/>
                  <a:pt x="10889" y="15040"/>
                  <a:pt x="10889" y="15032"/>
                </a:cubicBezTo>
                <a:cubicBezTo>
                  <a:pt x="10959" y="14970"/>
                  <a:pt x="11076" y="14900"/>
                  <a:pt x="11038" y="15081"/>
                </a:cubicBezTo>
                <a:cubicBezTo>
                  <a:pt x="11014" y="15196"/>
                  <a:pt x="10992" y="15255"/>
                  <a:pt x="10889" y="15255"/>
                </a:cubicBezTo>
              </a:path>
              <a:path w="8237" h="4863">
                <a:moveTo>
                  <a:pt x="9798" y="13122"/>
                </a:moveTo>
                <a:cubicBezTo>
                  <a:pt x="9773" y="13147"/>
                  <a:pt x="9714" y="13205"/>
                  <a:pt x="9674" y="13246"/>
                </a:cubicBezTo>
                <a:cubicBezTo>
                  <a:pt x="9730" y="13155"/>
                  <a:pt x="9797" y="13076"/>
                  <a:pt x="9872" y="12998"/>
                </a:cubicBezTo>
                <a:cubicBezTo>
                  <a:pt x="9997" y="12868"/>
                  <a:pt x="10112" y="12745"/>
                  <a:pt x="10220" y="12601"/>
                </a:cubicBezTo>
                <a:cubicBezTo>
                  <a:pt x="10275" y="12527"/>
                  <a:pt x="10331" y="12469"/>
                  <a:pt x="10393" y="12402"/>
                </a:cubicBezTo>
                <a:cubicBezTo>
                  <a:pt x="10018" y="12672"/>
                  <a:pt x="9665" y="12983"/>
                  <a:pt x="9302" y="13271"/>
                </a:cubicBezTo>
                <a:cubicBezTo>
                  <a:pt x="9059" y="13464"/>
                  <a:pt x="8734" y="13712"/>
                  <a:pt x="8508" y="13915"/>
                </a:cubicBezTo>
              </a:path>
              <a:path w="8237" h="4863">
                <a:moveTo>
                  <a:pt x="13568" y="15627"/>
                </a:moveTo>
                <a:cubicBezTo>
                  <a:pt x="13620" y="15627"/>
                  <a:pt x="13618" y="15596"/>
                  <a:pt x="13618" y="15627"/>
                </a:cubicBezTo>
                <a:cubicBezTo>
                  <a:pt x="13618" y="15711"/>
                  <a:pt x="13613" y="15780"/>
                  <a:pt x="13643" y="15850"/>
                </a:cubicBezTo>
                <a:cubicBezTo>
                  <a:pt x="13643" y="15801"/>
                  <a:pt x="13655" y="15637"/>
                  <a:pt x="13643" y="15677"/>
                </a:cubicBezTo>
                <a:cubicBezTo>
                  <a:pt x="13616" y="15768"/>
                  <a:pt x="13593" y="15853"/>
                  <a:pt x="13593" y="15949"/>
                </a:cubicBezTo>
                <a:cubicBezTo>
                  <a:pt x="13593" y="16026"/>
                  <a:pt x="13623" y="15801"/>
                  <a:pt x="13643" y="15726"/>
                </a:cubicBezTo>
                <a:cubicBezTo>
                  <a:pt x="13659" y="15665"/>
                  <a:pt x="13643" y="15681"/>
                  <a:pt x="13643" y="15751"/>
                </a:cubicBezTo>
                <a:cubicBezTo>
                  <a:pt x="13643" y="15913"/>
                  <a:pt x="13635" y="15718"/>
                  <a:pt x="13643" y="15652"/>
                </a:cubicBezTo>
                <a:cubicBezTo>
                  <a:pt x="13666" y="15463"/>
                  <a:pt x="13677" y="15549"/>
                  <a:pt x="13618" y="15652"/>
                </a:cubicBezTo>
              </a:path>
              <a:path w="8237" h="4863">
                <a:moveTo>
                  <a:pt x="13345" y="14759"/>
                </a:moveTo>
                <a:cubicBezTo>
                  <a:pt x="13369" y="14700"/>
                  <a:pt x="13424" y="14639"/>
                  <a:pt x="13469" y="14585"/>
                </a:cubicBezTo>
                <a:cubicBezTo>
                  <a:pt x="13533" y="14667"/>
                  <a:pt x="13583" y="14760"/>
                  <a:pt x="13494" y="14858"/>
                </a:cubicBezTo>
                <a:cubicBezTo>
                  <a:pt x="13486" y="14858"/>
                  <a:pt x="13477" y="14858"/>
                  <a:pt x="13469" y="14858"/>
                </a:cubicBezTo>
                <a:cubicBezTo>
                  <a:pt x="13499" y="14797"/>
                  <a:pt x="13630" y="14761"/>
                  <a:pt x="13667" y="14858"/>
                </a:cubicBezTo>
                <a:cubicBezTo>
                  <a:pt x="13720" y="14998"/>
                  <a:pt x="13518" y="15156"/>
                  <a:pt x="13395" y="15156"/>
                </a:cubicBezTo>
                <a:cubicBezTo>
                  <a:pt x="13395" y="15131"/>
                  <a:pt x="13395" y="15123"/>
                  <a:pt x="13395" y="15106"/>
                </a:cubicBezTo>
              </a:path>
              <a:path w="8237" h="4863">
                <a:moveTo>
                  <a:pt x="11410" y="12502"/>
                </a:moveTo>
                <a:cubicBezTo>
                  <a:pt x="11058" y="12866"/>
                  <a:pt x="10711" y="13264"/>
                  <a:pt x="10393" y="13643"/>
                </a:cubicBezTo>
              </a:path>
              <a:path w="8237" h="4863">
                <a:moveTo>
                  <a:pt x="11981" y="13816"/>
                </a:moveTo>
                <a:cubicBezTo>
                  <a:pt x="12162" y="13701"/>
                  <a:pt x="12356" y="13573"/>
                  <a:pt x="12551" y="13469"/>
                </a:cubicBezTo>
                <a:cubicBezTo>
                  <a:pt x="12935" y="13265"/>
                  <a:pt x="13300" y="13035"/>
                  <a:pt x="13692" y="12849"/>
                </a:cubicBezTo>
                <a:cubicBezTo>
                  <a:pt x="13825" y="12786"/>
                  <a:pt x="13949" y="12726"/>
                  <a:pt x="14089" y="12700"/>
                </a:cubicBezTo>
              </a:path>
              <a:path w="8237" h="4863">
                <a:moveTo>
                  <a:pt x="15553" y="12502"/>
                </a:moveTo>
                <a:cubicBezTo>
                  <a:pt x="15342" y="12687"/>
                  <a:pt x="15072" y="12874"/>
                  <a:pt x="14833" y="13047"/>
                </a:cubicBezTo>
                <a:cubicBezTo>
                  <a:pt x="14791" y="13077"/>
                  <a:pt x="14192" y="13461"/>
                  <a:pt x="14163" y="13494"/>
                </a:cubicBezTo>
                <a:cubicBezTo>
                  <a:pt x="14215" y="13494"/>
                  <a:pt x="14233" y="13493"/>
                  <a:pt x="14263" y="134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8120" y="5473800"/>
            <a:ext cx="216000" cy="635040"/>
          </a:xfrm>
          <a:custGeom>
            <a:avLst/>
            <a:gdLst/>
            <a:ahLst/>
            <a:rect l="l" t="t" r="r" b="b"/>
            <a:pathLst>
              <a:path w="597" h="1762">
                <a:moveTo>
                  <a:pt x="17041" y="15304"/>
                </a:moveTo>
                <a:cubicBezTo>
                  <a:pt x="17004" y="15415"/>
                  <a:pt x="17055" y="15668"/>
                  <a:pt x="17066" y="15825"/>
                </a:cubicBezTo>
                <a:cubicBezTo>
                  <a:pt x="17066" y="15850"/>
                  <a:pt x="17066" y="15875"/>
                  <a:pt x="17066" y="15900"/>
                </a:cubicBezTo>
                <a:cubicBezTo>
                  <a:pt x="17047" y="15728"/>
                  <a:pt x="16998" y="15577"/>
                  <a:pt x="16991" y="15404"/>
                </a:cubicBezTo>
                <a:cubicBezTo>
                  <a:pt x="16987" y="15315"/>
                  <a:pt x="16977" y="15269"/>
                  <a:pt x="17016" y="15205"/>
                </a:cubicBezTo>
              </a:path>
              <a:path w="597" h="1762">
                <a:moveTo>
                  <a:pt x="16718" y="16371"/>
                </a:moveTo>
                <a:cubicBezTo>
                  <a:pt x="16735" y="16527"/>
                  <a:pt x="16743" y="16681"/>
                  <a:pt x="16743" y="16842"/>
                </a:cubicBezTo>
                <a:cubicBezTo>
                  <a:pt x="16743" y="16900"/>
                  <a:pt x="16743" y="16975"/>
                  <a:pt x="16743" y="16917"/>
                </a:cubicBezTo>
              </a:path>
              <a:path w="597" h="1762">
                <a:moveTo>
                  <a:pt x="17016" y="16396"/>
                </a:moveTo>
                <a:cubicBezTo>
                  <a:pt x="17003" y="16538"/>
                  <a:pt x="16974" y="16675"/>
                  <a:pt x="16966" y="16818"/>
                </a:cubicBezTo>
                <a:cubicBezTo>
                  <a:pt x="17096" y="16877"/>
                  <a:pt x="17246" y="16896"/>
                  <a:pt x="17314" y="16718"/>
                </a:cubicBezTo>
                <a:cubicBezTo>
                  <a:pt x="17369" y="16574"/>
                  <a:pt x="17240" y="16450"/>
                  <a:pt x="17115" y="16421"/>
                </a:cubicBezTo>
                <a:cubicBezTo>
                  <a:pt x="17099" y="16421"/>
                  <a:pt x="17082" y="16421"/>
                  <a:pt x="17066" y="164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81880" y="5160960"/>
            <a:ext cx="758880" cy="679320"/>
          </a:xfrm>
          <a:custGeom>
            <a:avLst/>
            <a:gdLst/>
            <a:ahLst/>
            <a:rect l="l" t="t" r="r" b="b"/>
            <a:pathLst>
              <a:path w="2109" h="1886">
                <a:moveTo>
                  <a:pt x="19199" y="15230"/>
                </a:moveTo>
                <a:cubicBezTo>
                  <a:pt x="19199" y="15197"/>
                  <a:pt x="19199" y="15181"/>
                  <a:pt x="19199" y="15156"/>
                </a:cubicBezTo>
                <a:cubicBezTo>
                  <a:pt x="19218" y="15321"/>
                  <a:pt x="19254" y="15486"/>
                  <a:pt x="19273" y="15652"/>
                </a:cubicBezTo>
                <a:cubicBezTo>
                  <a:pt x="19273" y="15693"/>
                  <a:pt x="19273" y="15717"/>
                  <a:pt x="19273" y="15677"/>
                </a:cubicBezTo>
              </a:path>
              <a:path w="2109" h="1886">
                <a:moveTo>
                  <a:pt x="19075" y="15974"/>
                </a:moveTo>
                <a:cubicBezTo>
                  <a:pt x="19039" y="16021"/>
                  <a:pt x="19050" y="16137"/>
                  <a:pt x="19050" y="16222"/>
                </a:cubicBezTo>
                <a:cubicBezTo>
                  <a:pt x="19050" y="16214"/>
                  <a:pt x="19050" y="16205"/>
                  <a:pt x="19050" y="16197"/>
                </a:cubicBezTo>
              </a:path>
              <a:path w="2109" h="1886">
                <a:moveTo>
                  <a:pt x="19422" y="15850"/>
                </a:moveTo>
                <a:cubicBezTo>
                  <a:pt x="19355" y="15861"/>
                  <a:pt x="19300" y="15871"/>
                  <a:pt x="19273" y="15925"/>
                </a:cubicBezTo>
                <a:cubicBezTo>
                  <a:pt x="19240" y="15991"/>
                  <a:pt x="19248" y="16050"/>
                  <a:pt x="19248" y="16123"/>
                </a:cubicBezTo>
                <a:cubicBezTo>
                  <a:pt x="19342" y="16111"/>
                  <a:pt x="19400" y="16058"/>
                  <a:pt x="19496" y="16098"/>
                </a:cubicBezTo>
                <a:cubicBezTo>
                  <a:pt x="19519" y="16121"/>
                  <a:pt x="19527" y="16125"/>
                  <a:pt x="19521" y="16148"/>
                </a:cubicBezTo>
                <a:cubicBezTo>
                  <a:pt x="19425" y="16199"/>
                  <a:pt x="19401" y="16218"/>
                  <a:pt x="19298" y="16197"/>
                </a:cubicBezTo>
              </a:path>
              <a:path w="2109" h="1886">
                <a:moveTo>
                  <a:pt x="20191" y="15255"/>
                </a:moveTo>
                <a:cubicBezTo>
                  <a:pt x="20195" y="15234"/>
                  <a:pt x="20238" y="15113"/>
                  <a:pt x="20241" y="15131"/>
                </a:cubicBezTo>
                <a:cubicBezTo>
                  <a:pt x="20257" y="15225"/>
                  <a:pt x="20241" y="15333"/>
                  <a:pt x="20241" y="15429"/>
                </a:cubicBezTo>
                <a:cubicBezTo>
                  <a:pt x="20241" y="15488"/>
                  <a:pt x="20232" y="15360"/>
                  <a:pt x="20216" y="15304"/>
                </a:cubicBezTo>
                <a:cubicBezTo>
                  <a:pt x="20193" y="15224"/>
                  <a:pt x="20174" y="15169"/>
                  <a:pt x="20191" y="15280"/>
                </a:cubicBezTo>
                <a:cubicBezTo>
                  <a:pt x="20216" y="15404"/>
                  <a:pt x="20224" y="15445"/>
                  <a:pt x="20241" y="15528"/>
                </a:cubicBezTo>
                <a:cubicBezTo>
                  <a:pt x="20241" y="15586"/>
                  <a:pt x="20241" y="15627"/>
                  <a:pt x="20241" y="15577"/>
                </a:cubicBezTo>
                <a:cubicBezTo>
                  <a:pt x="20232" y="15467"/>
                  <a:pt x="20198" y="15364"/>
                  <a:pt x="20191" y="15255"/>
                </a:cubicBezTo>
                <a:cubicBezTo>
                  <a:pt x="20189" y="15222"/>
                  <a:pt x="20191" y="15271"/>
                  <a:pt x="20191" y="15304"/>
                </a:cubicBezTo>
                <a:cubicBezTo>
                  <a:pt x="20210" y="15387"/>
                  <a:pt x="20274" y="15582"/>
                  <a:pt x="20241" y="15503"/>
                </a:cubicBezTo>
                <a:cubicBezTo>
                  <a:pt x="20215" y="15441"/>
                  <a:pt x="20198" y="15395"/>
                  <a:pt x="20191" y="15329"/>
                </a:cubicBezTo>
              </a:path>
              <a:path w="2109" h="1886">
                <a:moveTo>
                  <a:pt x="19943" y="14536"/>
                </a:moveTo>
                <a:cubicBezTo>
                  <a:pt x="19935" y="14528"/>
                  <a:pt x="19926" y="14519"/>
                  <a:pt x="19918" y="14511"/>
                </a:cubicBezTo>
                <a:cubicBezTo>
                  <a:pt x="19941" y="14601"/>
                  <a:pt x="19989" y="14700"/>
                  <a:pt x="20017" y="14784"/>
                </a:cubicBezTo>
                <a:cubicBezTo>
                  <a:pt x="20017" y="14792"/>
                  <a:pt x="20017" y="14800"/>
                  <a:pt x="20017" y="14808"/>
                </a:cubicBezTo>
              </a:path>
              <a:path w="2109" h="1886">
                <a:moveTo>
                  <a:pt x="20117" y="14436"/>
                </a:moveTo>
                <a:cubicBezTo>
                  <a:pt x="20193" y="14394"/>
                  <a:pt x="20254" y="14351"/>
                  <a:pt x="20340" y="14337"/>
                </a:cubicBezTo>
                <a:cubicBezTo>
                  <a:pt x="20340" y="14465"/>
                  <a:pt x="20358" y="14583"/>
                  <a:pt x="20365" y="14709"/>
                </a:cubicBezTo>
                <a:cubicBezTo>
                  <a:pt x="20368" y="14761"/>
                  <a:pt x="20385" y="14780"/>
                  <a:pt x="20389" y="14833"/>
                </a:cubicBezTo>
                <a:cubicBezTo>
                  <a:pt x="20389" y="14841"/>
                  <a:pt x="20389" y="14850"/>
                  <a:pt x="20389" y="14858"/>
                </a:cubicBezTo>
              </a:path>
              <a:path w="2109" h="1886">
                <a:moveTo>
                  <a:pt x="18479" y="15304"/>
                </a:moveTo>
                <a:cubicBezTo>
                  <a:pt x="18441" y="15370"/>
                  <a:pt x="18455" y="15447"/>
                  <a:pt x="18455" y="15528"/>
                </a:cubicBezTo>
                <a:cubicBezTo>
                  <a:pt x="18455" y="15630"/>
                  <a:pt x="18490" y="15331"/>
                  <a:pt x="18504" y="15230"/>
                </a:cubicBezTo>
                <a:cubicBezTo>
                  <a:pt x="18504" y="15202"/>
                  <a:pt x="18502" y="15196"/>
                  <a:pt x="18479" y="15230"/>
                </a:cubicBezTo>
                <a:cubicBezTo>
                  <a:pt x="18479" y="15346"/>
                  <a:pt x="18479" y="15412"/>
                  <a:pt x="18479" y="15528"/>
                </a:cubicBezTo>
                <a:cubicBezTo>
                  <a:pt x="18479" y="15485"/>
                  <a:pt x="18479" y="15255"/>
                  <a:pt x="18479" y="15429"/>
                </a:cubicBezTo>
                <a:cubicBezTo>
                  <a:pt x="18479" y="15487"/>
                  <a:pt x="18479" y="15544"/>
                  <a:pt x="18479" y="15602"/>
                </a:cubicBezTo>
              </a:path>
              <a:path w="2109" h="1886">
                <a:moveTo>
                  <a:pt x="18331" y="14536"/>
                </a:moveTo>
                <a:cubicBezTo>
                  <a:pt x="18317" y="14644"/>
                  <a:pt x="18291" y="14750"/>
                  <a:pt x="18281" y="14858"/>
                </a:cubicBezTo>
              </a:path>
              <a:path w="2109" h="1886">
                <a:moveTo>
                  <a:pt x="18455" y="14486"/>
                </a:moveTo>
                <a:cubicBezTo>
                  <a:pt x="18527" y="14403"/>
                  <a:pt x="18588" y="14379"/>
                  <a:pt x="18703" y="14362"/>
                </a:cubicBezTo>
                <a:cubicBezTo>
                  <a:pt x="18668" y="14474"/>
                  <a:pt x="18639" y="14534"/>
                  <a:pt x="18579" y="14635"/>
                </a:cubicBezTo>
                <a:cubicBezTo>
                  <a:pt x="18633" y="14617"/>
                  <a:pt x="18681" y="14600"/>
                  <a:pt x="18703" y="14709"/>
                </a:cubicBezTo>
                <a:cubicBezTo>
                  <a:pt x="18728" y="14832"/>
                  <a:pt x="18586" y="14933"/>
                  <a:pt x="18479" y="14858"/>
                </a:cubicBezTo>
                <a:cubicBezTo>
                  <a:pt x="18479" y="14850"/>
                  <a:pt x="18479" y="14841"/>
                  <a:pt x="18479" y="148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13800" y="5322960"/>
            <a:ext cx="571320" cy="527040"/>
          </a:xfrm>
          <a:custGeom>
            <a:avLst/>
            <a:gdLst/>
            <a:ahLst/>
            <a:rect l="l" t="t" r="r" b="b"/>
            <a:pathLst>
              <a:path w="1589" h="1464">
                <a:moveTo>
                  <a:pt x="22820" y="14784"/>
                </a:moveTo>
                <a:cubicBezTo>
                  <a:pt x="22925" y="14841"/>
                  <a:pt x="23029" y="14894"/>
                  <a:pt x="23143" y="14932"/>
                </a:cubicBezTo>
                <a:cubicBezTo>
                  <a:pt x="23227" y="14953"/>
                  <a:pt x="23246" y="14955"/>
                  <a:pt x="23292" y="14982"/>
                </a:cubicBezTo>
                <a:cubicBezTo>
                  <a:pt x="23156" y="15069"/>
                  <a:pt x="22985" y="15140"/>
                  <a:pt x="22870" y="15255"/>
                </a:cubicBezTo>
                <a:cubicBezTo>
                  <a:pt x="22839" y="15286"/>
                  <a:pt x="22845" y="15317"/>
                  <a:pt x="22845" y="15354"/>
                </a:cubicBezTo>
              </a:path>
              <a:path w="1589" h="1464">
                <a:moveTo>
                  <a:pt x="22027" y="15032"/>
                </a:moveTo>
                <a:cubicBezTo>
                  <a:pt x="21953" y="15056"/>
                  <a:pt x="21978" y="15262"/>
                  <a:pt x="21977" y="15329"/>
                </a:cubicBezTo>
                <a:cubicBezTo>
                  <a:pt x="21977" y="15331"/>
                  <a:pt x="21969" y="15689"/>
                  <a:pt x="21952" y="15478"/>
                </a:cubicBezTo>
                <a:cubicBezTo>
                  <a:pt x="21941" y="15337"/>
                  <a:pt x="21927" y="15198"/>
                  <a:pt x="21927" y="15056"/>
                </a:cubicBezTo>
                <a:cubicBezTo>
                  <a:pt x="21927" y="15040"/>
                  <a:pt x="21927" y="15023"/>
                  <a:pt x="21927" y="15007"/>
                </a:cubicBezTo>
                <a:cubicBezTo>
                  <a:pt x="21971" y="15124"/>
                  <a:pt x="21967" y="15317"/>
                  <a:pt x="21977" y="15453"/>
                </a:cubicBezTo>
                <a:cubicBezTo>
                  <a:pt x="21991" y="15633"/>
                  <a:pt x="21977" y="15497"/>
                  <a:pt x="21977" y="15354"/>
                </a:cubicBezTo>
                <a:cubicBezTo>
                  <a:pt x="21977" y="15326"/>
                  <a:pt x="22032" y="14949"/>
                  <a:pt x="21952" y="15081"/>
                </a:cubicBezTo>
              </a:path>
              <a:path w="1589" h="1464">
                <a:moveTo>
                  <a:pt x="21754" y="15875"/>
                </a:moveTo>
                <a:cubicBezTo>
                  <a:pt x="21692" y="15875"/>
                  <a:pt x="21906" y="15783"/>
                  <a:pt x="21927" y="15776"/>
                </a:cubicBezTo>
                <a:cubicBezTo>
                  <a:pt x="21944" y="15776"/>
                  <a:pt x="21960" y="15776"/>
                  <a:pt x="21977" y="15776"/>
                </a:cubicBezTo>
                <a:cubicBezTo>
                  <a:pt x="21977" y="15958"/>
                  <a:pt x="21880" y="16118"/>
                  <a:pt x="21729" y="16247"/>
                </a:cubicBezTo>
                <a:cubicBezTo>
                  <a:pt x="21721" y="16247"/>
                  <a:pt x="21712" y="16247"/>
                  <a:pt x="21704" y="16247"/>
                </a:cubicBezTo>
                <a:cubicBezTo>
                  <a:pt x="21797" y="16224"/>
                  <a:pt x="21877" y="16126"/>
                  <a:pt x="21977" y="16098"/>
                </a:cubicBezTo>
                <a:cubicBezTo>
                  <a:pt x="22132" y="16054"/>
                  <a:pt x="21997" y="16161"/>
                  <a:pt x="22151" y="16024"/>
                </a:cubicBezTo>
              </a:path>
              <a:path w="1589" h="1464">
                <a:moveTo>
                  <a:pt x="22399" y="15850"/>
                </a:moveTo>
                <a:cubicBezTo>
                  <a:pt x="22312" y="15959"/>
                  <a:pt x="22211" y="16063"/>
                  <a:pt x="22250" y="16197"/>
                </a:cubicBezTo>
                <a:cubicBezTo>
                  <a:pt x="22333" y="16163"/>
                  <a:pt x="22625" y="16050"/>
                  <a:pt x="22547" y="15900"/>
                </a:cubicBezTo>
                <a:cubicBezTo>
                  <a:pt x="22477" y="15853"/>
                  <a:pt x="22458" y="15836"/>
                  <a:pt x="22399" y="158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12920" y="4411800"/>
            <a:ext cx="1411200" cy="581040"/>
          </a:xfrm>
          <a:custGeom>
            <a:avLst/>
            <a:gdLst/>
            <a:ahLst/>
            <a:rect l="l" t="t" r="r" b="b"/>
            <a:pathLst>
              <a:path w="3920" h="1613">
                <a:moveTo>
                  <a:pt x="3646" y="13816"/>
                </a:moveTo>
                <a:cubicBezTo>
                  <a:pt x="3783" y="13561"/>
                  <a:pt x="3998" y="13339"/>
                  <a:pt x="4192" y="13122"/>
                </a:cubicBezTo>
                <a:cubicBezTo>
                  <a:pt x="4446" y="12837"/>
                  <a:pt x="4714" y="12567"/>
                  <a:pt x="4961" y="12278"/>
                </a:cubicBezTo>
                <a:cubicBezTo>
                  <a:pt x="5003" y="12238"/>
                  <a:pt x="4995" y="12246"/>
                  <a:pt x="4911" y="12328"/>
                </a:cubicBezTo>
              </a:path>
              <a:path w="3920" h="1613">
                <a:moveTo>
                  <a:pt x="5457" y="13519"/>
                </a:moveTo>
                <a:cubicBezTo>
                  <a:pt x="5523" y="13419"/>
                  <a:pt x="5549" y="13352"/>
                  <a:pt x="5606" y="13246"/>
                </a:cubicBezTo>
                <a:cubicBezTo>
                  <a:pt x="5769" y="12942"/>
                  <a:pt x="5976" y="12606"/>
                  <a:pt x="6201" y="12353"/>
                </a:cubicBezTo>
                <a:cubicBezTo>
                  <a:pt x="6209" y="12353"/>
                  <a:pt x="6218" y="12353"/>
                  <a:pt x="6226" y="12353"/>
                </a:cubicBezTo>
              </a:path>
              <a:path w="3920" h="1613">
                <a:moveTo>
                  <a:pt x="7565" y="12576"/>
                </a:moveTo>
                <a:cubicBezTo>
                  <a:pt x="7426" y="12854"/>
                  <a:pt x="7291" y="13166"/>
                  <a:pt x="7144" y="13444"/>
                </a:cubicBezTo>
                <a:cubicBezTo>
                  <a:pt x="7090" y="13546"/>
                  <a:pt x="6965" y="13749"/>
                  <a:pt x="6896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71720" y="5473800"/>
            <a:ext cx="7232400" cy="349200"/>
          </a:xfrm>
          <a:custGeom>
            <a:avLst/>
            <a:gdLst/>
            <a:ahLst/>
            <a:rect l="l" t="t" r="r" b="b"/>
            <a:pathLst>
              <a:path w="20092" h="969">
                <a:moveTo>
                  <a:pt x="2977" y="16173"/>
                </a:moveTo>
                <a:cubicBezTo>
                  <a:pt x="3209" y="16143"/>
                  <a:pt x="3440" y="16126"/>
                  <a:pt x="3671" y="16098"/>
                </a:cubicBezTo>
                <a:cubicBezTo>
                  <a:pt x="3780" y="16085"/>
                  <a:pt x="3886" y="16059"/>
                  <a:pt x="3994" y="16049"/>
                </a:cubicBezTo>
                <a:cubicBezTo>
                  <a:pt x="4108" y="16038"/>
                  <a:pt x="4227" y="16024"/>
                  <a:pt x="4341" y="16024"/>
                </a:cubicBezTo>
                <a:cubicBezTo>
                  <a:pt x="4521" y="16024"/>
                  <a:pt x="4684" y="16040"/>
                  <a:pt x="4862" y="16049"/>
                </a:cubicBezTo>
                <a:cubicBezTo>
                  <a:pt x="5235" y="16068"/>
                  <a:pt x="5603" y="16106"/>
                  <a:pt x="5978" y="16098"/>
                </a:cubicBezTo>
                <a:cubicBezTo>
                  <a:pt x="6154" y="16094"/>
                  <a:pt x="6324" y="16084"/>
                  <a:pt x="6499" y="16073"/>
                </a:cubicBezTo>
                <a:cubicBezTo>
                  <a:pt x="6718" y="16060"/>
                  <a:pt x="6951" y="16022"/>
                  <a:pt x="7169" y="16024"/>
                </a:cubicBezTo>
                <a:cubicBezTo>
                  <a:pt x="7634" y="16028"/>
                  <a:pt x="8066" y="16061"/>
                  <a:pt x="8533" y="16024"/>
                </a:cubicBezTo>
                <a:cubicBezTo>
                  <a:pt x="8741" y="16007"/>
                  <a:pt x="8946" y="15987"/>
                  <a:pt x="9153" y="15974"/>
                </a:cubicBezTo>
                <a:cubicBezTo>
                  <a:pt x="9361" y="15961"/>
                  <a:pt x="9565" y="15946"/>
                  <a:pt x="9773" y="15925"/>
                </a:cubicBezTo>
                <a:cubicBezTo>
                  <a:pt x="10463" y="15854"/>
                  <a:pt x="11140" y="15765"/>
                  <a:pt x="11832" y="15751"/>
                </a:cubicBezTo>
                <a:cubicBezTo>
                  <a:pt x="12123" y="15745"/>
                  <a:pt x="12410" y="15742"/>
                  <a:pt x="12700" y="15726"/>
                </a:cubicBezTo>
                <a:cubicBezTo>
                  <a:pt x="12973" y="15711"/>
                  <a:pt x="13245" y="15712"/>
                  <a:pt x="13519" y="15701"/>
                </a:cubicBezTo>
                <a:cubicBezTo>
                  <a:pt x="13774" y="15690"/>
                  <a:pt x="14032" y="15667"/>
                  <a:pt x="14288" y="15652"/>
                </a:cubicBezTo>
                <a:cubicBezTo>
                  <a:pt x="14619" y="15632"/>
                  <a:pt x="14949" y="15597"/>
                  <a:pt x="15280" y="15577"/>
                </a:cubicBezTo>
                <a:cubicBezTo>
                  <a:pt x="15653" y="15555"/>
                  <a:pt x="16024" y="15526"/>
                  <a:pt x="16396" y="15503"/>
                </a:cubicBezTo>
                <a:cubicBezTo>
                  <a:pt x="16807" y="15477"/>
                  <a:pt x="17224" y="15441"/>
                  <a:pt x="17636" y="15429"/>
                </a:cubicBezTo>
                <a:cubicBezTo>
                  <a:pt x="17959" y="15419"/>
                  <a:pt x="18281" y="15420"/>
                  <a:pt x="18604" y="15404"/>
                </a:cubicBezTo>
                <a:cubicBezTo>
                  <a:pt x="18984" y="15386"/>
                  <a:pt x="19364" y="15360"/>
                  <a:pt x="19745" y="15354"/>
                </a:cubicBezTo>
                <a:cubicBezTo>
                  <a:pt x="20115" y="15348"/>
                  <a:pt x="20493" y="15361"/>
                  <a:pt x="20861" y="15329"/>
                </a:cubicBezTo>
                <a:cubicBezTo>
                  <a:pt x="21365" y="15285"/>
                  <a:pt x="21868" y="15220"/>
                  <a:pt x="22374" y="15205"/>
                </a:cubicBezTo>
                <a:cubicBezTo>
                  <a:pt x="22605" y="15198"/>
                  <a:pt x="22837" y="15205"/>
                  <a:pt x="23068" y="152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472"/>
                </a:solidFill>
                <a:latin typeface="Arial"/>
              </a:rPr>
              <a:t>Objective:  Students will add integers.</a:t>
            </a:r>
            <a:endParaRPr b="0" lang="en-US" sz="36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How do know the sign of the sum or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How do you know the number part of the sum or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54100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see if we can find the rul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44920" y="2705040"/>
            <a:ext cx="1947960" cy="733320"/>
          </a:xfrm>
          <a:custGeom>
            <a:avLst/>
            <a:gdLst/>
            <a:ahLst/>
            <a:rect l="l" t="t" r="r" b="b"/>
            <a:pathLst>
              <a:path w="5409" h="2035">
                <a:moveTo>
                  <a:pt x="15230" y="9550"/>
                </a:moveTo>
                <a:cubicBezTo>
                  <a:pt x="15238" y="9550"/>
                  <a:pt x="15247" y="9550"/>
                  <a:pt x="15255" y="9550"/>
                </a:cubicBezTo>
              </a:path>
              <a:path w="5409" h="2035">
                <a:moveTo>
                  <a:pt x="9847" y="7565"/>
                </a:moveTo>
                <a:cubicBezTo>
                  <a:pt x="9965" y="7565"/>
                  <a:pt x="10032" y="7555"/>
                  <a:pt x="10120" y="75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67160" y="2732040"/>
            <a:ext cx="2803680" cy="142920"/>
          </a:xfrm>
          <a:custGeom>
            <a:avLst/>
            <a:gdLst/>
            <a:ahLst/>
            <a:rect l="l" t="t" r="r" b="b"/>
            <a:pathLst>
              <a:path w="7790" h="398">
                <a:moveTo>
                  <a:pt x="12129" y="7987"/>
                </a:moveTo>
                <a:cubicBezTo>
                  <a:pt x="12299" y="7963"/>
                  <a:pt x="12477" y="7923"/>
                  <a:pt x="12650" y="7913"/>
                </a:cubicBezTo>
                <a:cubicBezTo>
                  <a:pt x="12923" y="7897"/>
                  <a:pt x="13195" y="7888"/>
                  <a:pt x="13469" y="7888"/>
                </a:cubicBezTo>
                <a:cubicBezTo>
                  <a:pt x="13769" y="7888"/>
                  <a:pt x="14064" y="7909"/>
                  <a:pt x="14362" y="7913"/>
                </a:cubicBezTo>
                <a:cubicBezTo>
                  <a:pt x="14587" y="7916"/>
                  <a:pt x="14807" y="7888"/>
                  <a:pt x="15032" y="7888"/>
                </a:cubicBezTo>
                <a:cubicBezTo>
                  <a:pt x="15261" y="7888"/>
                  <a:pt x="15469" y="7912"/>
                  <a:pt x="15701" y="7888"/>
                </a:cubicBezTo>
                <a:cubicBezTo>
                  <a:pt x="15999" y="7857"/>
                  <a:pt x="16297" y="7861"/>
                  <a:pt x="16594" y="7813"/>
                </a:cubicBezTo>
                <a:cubicBezTo>
                  <a:pt x="16909" y="7762"/>
                  <a:pt x="17217" y="7725"/>
                  <a:pt x="17537" y="7714"/>
                </a:cubicBezTo>
                <a:cubicBezTo>
                  <a:pt x="17799" y="7705"/>
                  <a:pt x="18069" y="7711"/>
                  <a:pt x="18331" y="7689"/>
                </a:cubicBezTo>
                <a:cubicBezTo>
                  <a:pt x="18552" y="7671"/>
                  <a:pt x="18759" y="7652"/>
                  <a:pt x="18976" y="7615"/>
                </a:cubicBezTo>
                <a:cubicBezTo>
                  <a:pt x="19172" y="7582"/>
                  <a:pt x="19371" y="7590"/>
                  <a:pt x="19571" y="7590"/>
                </a:cubicBezTo>
                <a:cubicBezTo>
                  <a:pt x="19683" y="7590"/>
                  <a:pt x="19820" y="7604"/>
                  <a:pt x="19918" y="76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7840" y="4429080"/>
            <a:ext cx="1598400" cy="88920"/>
          </a:xfrm>
          <a:custGeom>
            <a:avLst/>
            <a:gdLst/>
            <a:ahLst/>
            <a:rect l="l" t="t" r="r" b="b"/>
            <a:pathLst>
              <a:path w="4441" h="249">
                <a:moveTo>
                  <a:pt x="13494" y="12526"/>
                </a:moveTo>
                <a:cubicBezTo>
                  <a:pt x="13533" y="12526"/>
                  <a:pt x="13606" y="12526"/>
                  <a:pt x="13667" y="12526"/>
                </a:cubicBezTo>
                <a:cubicBezTo>
                  <a:pt x="13950" y="12526"/>
                  <a:pt x="14232" y="12525"/>
                  <a:pt x="14511" y="12551"/>
                </a:cubicBezTo>
                <a:cubicBezTo>
                  <a:pt x="14796" y="12578"/>
                  <a:pt x="15098" y="12550"/>
                  <a:pt x="15379" y="12526"/>
                </a:cubicBezTo>
                <a:cubicBezTo>
                  <a:pt x="15517" y="12514"/>
                  <a:pt x="15663" y="12520"/>
                  <a:pt x="15801" y="12502"/>
                </a:cubicBezTo>
                <a:cubicBezTo>
                  <a:pt x="15931" y="12485"/>
                  <a:pt x="16068" y="12474"/>
                  <a:pt x="16197" y="12452"/>
                </a:cubicBezTo>
                <a:cubicBezTo>
                  <a:pt x="16347" y="12427"/>
                  <a:pt x="16493" y="12403"/>
                  <a:pt x="16644" y="12378"/>
                </a:cubicBezTo>
                <a:cubicBezTo>
                  <a:pt x="16900" y="12335"/>
                  <a:pt x="17150" y="12275"/>
                  <a:pt x="17413" y="12303"/>
                </a:cubicBezTo>
                <a:cubicBezTo>
                  <a:pt x="17565" y="12319"/>
                  <a:pt x="17706" y="12373"/>
                  <a:pt x="17859" y="12378"/>
                </a:cubicBezTo>
                <a:cubicBezTo>
                  <a:pt x="17884" y="12379"/>
                  <a:pt x="17909" y="12378"/>
                  <a:pt x="17934" y="123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2880" y="6367320"/>
            <a:ext cx="303120" cy="347760"/>
          </a:xfrm>
          <a:custGeom>
            <a:avLst/>
            <a:gdLst/>
            <a:ahLst/>
            <a:rect l="l" t="t" r="r" b="b"/>
            <a:pathLst>
              <a:path w="845" h="968">
                <a:moveTo>
                  <a:pt x="2257" y="17711"/>
                </a:moveTo>
                <a:cubicBezTo>
                  <a:pt x="2363" y="17711"/>
                  <a:pt x="2478" y="17682"/>
                  <a:pt x="2580" y="17686"/>
                </a:cubicBezTo>
                <a:cubicBezTo>
                  <a:pt x="2852" y="17696"/>
                  <a:pt x="2975" y="17815"/>
                  <a:pt x="3076" y="18058"/>
                </a:cubicBezTo>
                <a:cubicBezTo>
                  <a:pt x="3132" y="18192"/>
                  <a:pt x="3087" y="18310"/>
                  <a:pt x="3026" y="18430"/>
                </a:cubicBezTo>
                <a:cubicBezTo>
                  <a:pt x="3007" y="18468"/>
                  <a:pt x="2985" y="18532"/>
                  <a:pt x="2977" y="18579"/>
                </a:cubicBezTo>
                <a:cubicBezTo>
                  <a:pt x="2977" y="18623"/>
                  <a:pt x="2980" y="18637"/>
                  <a:pt x="2952" y="18653"/>
                </a:cubicBezTo>
                <a:cubicBezTo>
                  <a:pt x="2955" y="18634"/>
                  <a:pt x="2962" y="18557"/>
                  <a:pt x="2977" y="18554"/>
                </a:cubicBezTo>
                <a:cubicBezTo>
                  <a:pt x="2992" y="18551"/>
                  <a:pt x="3076" y="18616"/>
                  <a:pt x="3076" y="18554"/>
                </a:cubicBezTo>
                <a:cubicBezTo>
                  <a:pt x="3068" y="18554"/>
                  <a:pt x="3059" y="18554"/>
                  <a:pt x="3051" y="185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0840" y="152280"/>
            <a:ext cx="884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Objective:  Students will add integers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3120" y="1676160"/>
            <a:ext cx="85377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Value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distance between a number and z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solute value of a number is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bsolute value of the numb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)  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) -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)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8080" y="3200400"/>
          <a:ext cx="72864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200400"/>
                    <a:ext cx="72864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830160" y="2143080"/>
            <a:ext cx="2571840" cy="2473200"/>
          </a:xfrm>
          <a:custGeom>
            <a:avLst/>
            <a:gdLst/>
            <a:ahLst/>
            <a:rect l="l" t="t" r="r" b="b"/>
            <a:pathLst>
              <a:path w="7145" h="6872">
                <a:moveTo>
                  <a:pt x="2307" y="6052"/>
                </a:moveTo>
                <a:cubicBezTo>
                  <a:pt x="2391" y="6061"/>
                  <a:pt x="2471" y="6072"/>
                  <a:pt x="2555" y="6077"/>
                </a:cubicBezTo>
                <a:cubicBezTo>
                  <a:pt x="2723" y="6087"/>
                  <a:pt x="2885" y="6083"/>
                  <a:pt x="3051" y="6102"/>
                </a:cubicBezTo>
                <a:cubicBezTo>
                  <a:pt x="3167" y="6115"/>
                  <a:pt x="3281" y="6154"/>
                  <a:pt x="3398" y="6152"/>
                </a:cubicBezTo>
                <a:cubicBezTo>
                  <a:pt x="3493" y="6150"/>
                  <a:pt x="3622" y="6137"/>
                  <a:pt x="3721" y="6127"/>
                </a:cubicBezTo>
                <a:cubicBezTo>
                  <a:pt x="3837" y="6116"/>
                  <a:pt x="3948" y="6104"/>
                  <a:pt x="4068" y="6102"/>
                </a:cubicBezTo>
                <a:cubicBezTo>
                  <a:pt x="4425" y="6095"/>
                  <a:pt x="4784" y="6107"/>
                  <a:pt x="5135" y="6127"/>
                </a:cubicBezTo>
                <a:cubicBezTo>
                  <a:pt x="5311" y="6137"/>
                  <a:pt x="5485" y="6124"/>
                  <a:pt x="5655" y="6102"/>
                </a:cubicBezTo>
                <a:cubicBezTo>
                  <a:pt x="5804" y="6083"/>
                  <a:pt x="5950" y="6077"/>
                  <a:pt x="6102" y="6077"/>
                </a:cubicBezTo>
                <a:cubicBezTo>
                  <a:pt x="6256" y="6077"/>
                  <a:pt x="6420" y="6069"/>
                  <a:pt x="6573" y="6052"/>
                </a:cubicBezTo>
                <a:cubicBezTo>
                  <a:pt x="6667" y="6042"/>
                  <a:pt x="6747" y="6022"/>
                  <a:pt x="6846" y="6028"/>
                </a:cubicBezTo>
                <a:cubicBezTo>
                  <a:pt x="6997" y="6037"/>
                  <a:pt x="7140" y="6052"/>
                  <a:pt x="7293" y="6052"/>
                </a:cubicBezTo>
                <a:cubicBezTo>
                  <a:pt x="7576" y="6052"/>
                  <a:pt x="7856" y="6046"/>
                  <a:pt x="8136" y="6028"/>
                </a:cubicBezTo>
                <a:cubicBezTo>
                  <a:pt x="8309" y="6017"/>
                  <a:pt x="8484" y="6006"/>
                  <a:pt x="8657" y="6003"/>
                </a:cubicBezTo>
                <a:cubicBezTo>
                  <a:pt x="8757" y="6001"/>
                  <a:pt x="8836" y="5992"/>
                  <a:pt x="8930" y="5978"/>
                </a:cubicBezTo>
                <a:cubicBezTo>
                  <a:pt x="8982" y="5970"/>
                  <a:pt x="9025" y="5958"/>
                  <a:pt x="9079" y="5953"/>
                </a:cubicBezTo>
                <a:cubicBezTo>
                  <a:pt x="9119" y="5949"/>
                  <a:pt x="9154" y="5954"/>
                  <a:pt x="9203" y="5953"/>
                </a:cubicBezTo>
                <a:cubicBezTo>
                  <a:pt x="9287" y="5951"/>
                  <a:pt x="9338" y="5960"/>
                  <a:pt x="9426" y="5953"/>
                </a:cubicBezTo>
                <a:cubicBezTo>
                  <a:pt x="9434" y="5953"/>
                  <a:pt x="9443" y="5953"/>
                  <a:pt x="9451" y="5953"/>
                </a:cubicBezTo>
              </a:path>
              <a:path w="7145" h="6872">
                <a:moveTo>
                  <a:pt x="3026" y="12799"/>
                </a:moveTo>
                <a:cubicBezTo>
                  <a:pt x="3034" y="12807"/>
                  <a:pt x="3043" y="12816"/>
                  <a:pt x="3051" y="128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81080" y="5330880"/>
            <a:ext cx="500040" cy="1071360"/>
          </a:xfrm>
          <a:custGeom>
            <a:avLst/>
            <a:gdLst/>
            <a:ahLst/>
            <a:rect l="l" t="t" r="r" b="b"/>
            <a:pathLst>
              <a:path w="1390" h="2978">
                <a:moveTo>
                  <a:pt x="3001" y="14858"/>
                </a:moveTo>
                <a:cubicBezTo>
                  <a:pt x="3074" y="14966"/>
                  <a:pt x="3067" y="15054"/>
                  <a:pt x="3101" y="15180"/>
                </a:cubicBezTo>
                <a:cubicBezTo>
                  <a:pt x="3187" y="15497"/>
                  <a:pt x="3235" y="15874"/>
                  <a:pt x="3373" y="16173"/>
                </a:cubicBezTo>
                <a:cubicBezTo>
                  <a:pt x="3397" y="16226"/>
                  <a:pt x="3402" y="16236"/>
                  <a:pt x="3448" y="16272"/>
                </a:cubicBezTo>
              </a:path>
              <a:path w="1390" h="2978">
                <a:moveTo>
                  <a:pt x="4068" y="14833"/>
                </a:moveTo>
                <a:cubicBezTo>
                  <a:pt x="4044" y="14880"/>
                  <a:pt x="4082" y="15112"/>
                  <a:pt x="4118" y="15255"/>
                </a:cubicBezTo>
                <a:cubicBezTo>
                  <a:pt x="4191" y="15545"/>
                  <a:pt x="4244" y="15874"/>
                  <a:pt x="4366" y="16148"/>
                </a:cubicBezTo>
                <a:cubicBezTo>
                  <a:pt x="4366" y="16173"/>
                  <a:pt x="4366" y="16181"/>
                  <a:pt x="4390" y="16173"/>
                </a:cubicBezTo>
              </a:path>
              <a:path w="1390" h="2978">
                <a:moveTo>
                  <a:pt x="4167" y="17016"/>
                </a:moveTo>
                <a:cubicBezTo>
                  <a:pt x="4049" y="17016"/>
                  <a:pt x="3862" y="17147"/>
                  <a:pt x="3770" y="17214"/>
                </a:cubicBezTo>
                <a:cubicBezTo>
                  <a:pt x="3745" y="17239"/>
                  <a:pt x="3721" y="17264"/>
                  <a:pt x="3696" y="17289"/>
                </a:cubicBezTo>
                <a:cubicBezTo>
                  <a:pt x="3761" y="17393"/>
                  <a:pt x="4063" y="17411"/>
                  <a:pt x="4093" y="17562"/>
                </a:cubicBezTo>
                <a:cubicBezTo>
                  <a:pt x="4047" y="17700"/>
                  <a:pt x="4039" y="17743"/>
                  <a:pt x="3944" y="17785"/>
                </a:cubicBezTo>
                <a:cubicBezTo>
                  <a:pt x="3836" y="17659"/>
                  <a:pt x="3925" y="17372"/>
                  <a:pt x="4018" y="17190"/>
                </a:cubicBezTo>
                <a:cubicBezTo>
                  <a:pt x="4057" y="17151"/>
                  <a:pt x="4074" y="17149"/>
                  <a:pt x="4068" y="171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98920" y="5313240"/>
            <a:ext cx="536400" cy="1000080"/>
          </a:xfrm>
          <a:custGeom>
            <a:avLst/>
            <a:gdLst/>
            <a:ahLst/>
            <a:rect l="l" t="t" r="r" b="b"/>
            <a:pathLst>
              <a:path w="1490" h="2779">
                <a:moveTo>
                  <a:pt x="10096" y="14858"/>
                </a:moveTo>
                <a:cubicBezTo>
                  <a:pt x="10035" y="15174"/>
                  <a:pt x="10008" y="15503"/>
                  <a:pt x="9996" y="15825"/>
                </a:cubicBezTo>
                <a:cubicBezTo>
                  <a:pt x="9994" y="15872"/>
                  <a:pt x="9995" y="16298"/>
                  <a:pt x="9996" y="16297"/>
                </a:cubicBezTo>
                <a:cubicBezTo>
                  <a:pt x="10004" y="16280"/>
                  <a:pt x="10013" y="16264"/>
                  <a:pt x="10021" y="16247"/>
                </a:cubicBezTo>
              </a:path>
              <a:path w="1490" h="2779">
                <a:moveTo>
                  <a:pt x="11485" y="14784"/>
                </a:moveTo>
                <a:cubicBezTo>
                  <a:pt x="11485" y="14660"/>
                  <a:pt x="11485" y="14982"/>
                  <a:pt x="11485" y="15106"/>
                </a:cubicBezTo>
                <a:cubicBezTo>
                  <a:pt x="11485" y="15463"/>
                  <a:pt x="11460" y="15816"/>
                  <a:pt x="11460" y="16173"/>
                </a:cubicBezTo>
                <a:cubicBezTo>
                  <a:pt x="11460" y="16197"/>
                  <a:pt x="11460" y="16205"/>
                  <a:pt x="11460" y="16173"/>
                </a:cubicBezTo>
              </a:path>
              <a:path w="1490" h="2779">
                <a:moveTo>
                  <a:pt x="10716" y="16793"/>
                </a:moveTo>
                <a:cubicBezTo>
                  <a:pt x="10826" y="16793"/>
                  <a:pt x="10954" y="16779"/>
                  <a:pt x="11063" y="16768"/>
                </a:cubicBezTo>
                <a:cubicBezTo>
                  <a:pt x="11175" y="16757"/>
                  <a:pt x="11274" y="16743"/>
                  <a:pt x="11385" y="16743"/>
                </a:cubicBezTo>
                <a:cubicBezTo>
                  <a:pt x="11366" y="16944"/>
                  <a:pt x="11336" y="17168"/>
                  <a:pt x="11286" y="17363"/>
                </a:cubicBezTo>
                <a:cubicBezTo>
                  <a:pt x="11257" y="17477"/>
                  <a:pt x="11237" y="17457"/>
                  <a:pt x="11237" y="175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13320" y="5249880"/>
            <a:ext cx="428760" cy="1028520"/>
          </a:xfrm>
          <a:custGeom>
            <a:avLst/>
            <a:gdLst/>
            <a:ahLst/>
            <a:rect l="l" t="t" r="r" b="b"/>
            <a:pathLst>
              <a:path w="1192" h="2854">
                <a:moveTo>
                  <a:pt x="17537" y="14635"/>
                </a:moveTo>
                <a:cubicBezTo>
                  <a:pt x="17593" y="14726"/>
                  <a:pt x="17629" y="14866"/>
                  <a:pt x="17636" y="15007"/>
                </a:cubicBezTo>
                <a:cubicBezTo>
                  <a:pt x="17656" y="15387"/>
                  <a:pt x="17579" y="15768"/>
                  <a:pt x="17611" y="16148"/>
                </a:cubicBezTo>
                <a:cubicBezTo>
                  <a:pt x="17617" y="16215"/>
                  <a:pt x="17643" y="16337"/>
                  <a:pt x="17661" y="16272"/>
                </a:cubicBezTo>
                <a:cubicBezTo>
                  <a:pt x="17669" y="16214"/>
                  <a:pt x="17678" y="16156"/>
                  <a:pt x="17686" y="16098"/>
                </a:cubicBezTo>
              </a:path>
              <a:path w="1192" h="2854">
                <a:moveTo>
                  <a:pt x="18628" y="14585"/>
                </a:moveTo>
                <a:cubicBezTo>
                  <a:pt x="18699" y="14656"/>
                  <a:pt x="18650" y="15124"/>
                  <a:pt x="18653" y="15205"/>
                </a:cubicBezTo>
                <a:cubicBezTo>
                  <a:pt x="18665" y="15496"/>
                  <a:pt x="18678" y="15782"/>
                  <a:pt x="18678" y="16073"/>
                </a:cubicBezTo>
                <a:cubicBezTo>
                  <a:pt x="18678" y="16101"/>
                  <a:pt x="18680" y="16107"/>
                  <a:pt x="18703" y="16073"/>
                </a:cubicBezTo>
              </a:path>
              <a:path w="1192" h="2854">
                <a:moveTo>
                  <a:pt x="18430" y="16793"/>
                </a:moveTo>
                <a:cubicBezTo>
                  <a:pt x="18279" y="16818"/>
                  <a:pt x="18244" y="16883"/>
                  <a:pt x="18182" y="17016"/>
                </a:cubicBezTo>
                <a:cubicBezTo>
                  <a:pt x="18068" y="17259"/>
                  <a:pt x="18223" y="17523"/>
                  <a:pt x="18504" y="17388"/>
                </a:cubicBezTo>
                <a:cubicBezTo>
                  <a:pt x="18682" y="17302"/>
                  <a:pt x="18747" y="17127"/>
                  <a:pt x="18728" y="16942"/>
                </a:cubicBezTo>
                <a:cubicBezTo>
                  <a:pt x="18717" y="16837"/>
                  <a:pt x="18665" y="16768"/>
                  <a:pt x="18579" y="16718"/>
                </a:cubicBezTo>
                <a:cubicBezTo>
                  <a:pt x="18538" y="16699"/>
                  <a:pt x="18522" y="16680"/>
                  <a:pt x="18529" y="167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5240" y="228600"/>
            <a:ext cx="88120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Objective:  Students will add integers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sign – add the absolute values and use the common 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igns – subtract the absolute values and use the sign of the integer with the greater absolute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ites – the sum of an integer and its opposite is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8240" y="2160720"/>
            <a:ext cx="2633760" cy="1760400"/>
          </a:xfrm>
          <a:custGeom>
            <a:avLst/>
            <a:gdLst/>
            <a:ahLst/>
            <a:rect l="l" t="t" r="r" b="b"/>
            <a:pathLst>
              <a:path w="7319" h="4887">
                <a:moveTo>
                  <a:pt x="2133" y="6152"/>
                </a:moveTo>
                <a:cubicBezTo>
                  <a:pt x="2204" y="6137"/>
                  <a:pt x="2254" y="6121"/>
                  <a:pt x="2332" y="6127"/>
                </a:cubicBezTo>
                <a:cubicBezTo>
                  <a:pt x="2455" y="6136"/>
                  <a:pt x="2576" y="6152"/>
                  <a:pt x="2704" y="6152"/>
                </a:cubicBezTo>
                <a:cubicBezTo>
                  <a:pt x="3160" y="6152"/>
                  <a:pt x="3615" y="6154"/>
                  <a:pt x="4068" y="6127"/>
                </a:cubicBezTo>
                <a:cubicBezTo>
                  <a:pt x="4241" y="6117"/>
                  <a:pt x="4417" y="6112"/>
                  <a:pt x="4589" y="6102"/>
                </a:cubicBezTo>
                <a:cubicBezTo>
                  <a:pt x="4755" y="6092"/>
                  <a:pt x="4922" y="6089"/>
                  <a:pt x="5085" y="6077"/>
                </a:cubicBezTo>
                <a:cubicBezTo>
                  <a:pt x="5258" y="6065"/>
                  <a:pt x="5434" y="6056"/>
                  <a:pt x="5606" y="6052"/>
                </a:cubicBezTo>
                <a:cubicBezTo>
                  <a:pt x="5913" y="6044"/>
                  <a:pt x="6218" y="6043"/>
                  <a:pt x="6524" y="6028"/>
                </a:cubicBezTo>
                <a:cubicBezTo>
                  <a:pt x="6691" y="6020"/>
                  <a:pt x="6856" y="6016"/>
                  <a:pt x="7020" y="6003"/>
                </a:cubicBezTo>
                <a:cubicBezTo>
                  <a:pt x="7126" y="5994"/>
                  <a:pt x="7236" y="6003"/>
                  <a:pt x="7342" y="6003"/>
                </a:cubicBezTo>
              </a:path>
              <a:path w="7319" h="4887">
                <a:moveTo>
                  <a:pt x="2282" y="6325"/>
                </a:moveTo>
                <a:cubicBezTo>
                  <a:pt x="2292" y="6322"/>
                  <a:pt x="2314" y="6302"/>
                  <a:pt x="2356" y="6300"/>
                </a:cubicBezTo>
                <a:cubicBezTo>
                  <a:pt x="2437" y="6297"/>
                  <a:pt x="2506" y="6318"/>
                  <a:pt x="2580" y="6325"/>
                </a:cubicBezTo>
                <a:cubicBezTo>
                  <a:pt x="2694" y="6336"/>
                  <a:pt x="2816" y="6341"/>
                  <a:pt x="2927" y="6350"/>
                </a:cubicBezTo>
                <a:cubicBezTo>
                  <a:pt x="3561" y="6399"/>
                  <a:pt x="4207" y="6317"/>
                  <a:pt x="4837" y="6375"/>
                </a:cubicBezTo>
                <a:cubicBezTo>
                  <a:pt x="5020" y="6392"/>
                  <a:pt x="5205" y="6370"/>
                  <a:pt x="5383" y="6350"/>
                </a:cubicBezTo>
                <a:cubicBezTo>
                  <a:pt x="5472" y="6340"/>
                  <a:pt x="5551" y="6370"/>
                  <a:pt x="5631" y="6375"/>
                </a:cubicBezTo>
                <a:cubicBezTo>
                  <a:pt x="5938" y="6396"/>
                  <a:pt x="6243" y="6350"/>
                  <a:pt x="6548" y="6350"/>
                </a:cubicBezTo>
                <a:cubicBezTo>
                  <a:pt x="6621" y="6350"/>
                  <a:pt x="6681" y="6332"/>
                  <a:pt x="6747" y="6325"/>
                </a:cubicBezTo>
                <a:cubicBezTo>
                  <a:pt x="6780" y="6322"/>
                  <a:pt x="6813" y="6328"/>
                  <a:pt x="6846" y="6325"/>
                </a:cubicBezTo>
              </a:path>
              <a:path w="7319" h="4887">
                <a:moveTo>
                  <a:pt x="2232" y="10740"/>
                </a:moveTo>
                <a:cubicBezTo>
                  <a:pt x="2996" y="10740"/>
                  <a:pt x="3786" y="10680"/>
                  <a:pt x="4539" y="10765"/>
                </a:cubicBezTo>
                <a:cubicBezTo>
                  <a:pt x="4786" y="10793"/>
                  <a:pt x="5012" y="10769"/>
                  <a:pt x="5259" y="10765"/>
                </a:cubicBezTo>
                <a:cubicBezTo>
                  <a:pt x="5419" y="10762"/>
                  <a:pt x="5595" y="10775"/>
                  <a:pt x="5755" y="10790"/>
                </a:cubicBezTo>
                <a:cubicBezTo>
                  <a:pt x="6083" y="10820"/>
                  <a:pt x="6417" y="10835"/>
                  <a:pt x="6747" y="10840"/>
                </a:cubicBezTo>
                <a:cubicBezTo>
                  <a:pt x="6955" y="10843"/>
                  <a:pt x="7158" y="10864"/>
                  <a:pt x="7367" y="10864"/>
                </a:cubicBezTo>
                <a:cubicBezTo>
                  <a:pt x="7575" y="10864"/>
                  <a:pt x="7778" y="10889"/>
                  <a:pt x="7987" y="10889"/>
                </a:cubicBezTo>
                <a:cubicBezTo>
                  <a:pt x="8229" y="10889"/>
                  <a:pt x="8465" y="10869"/>
                  <a:pt x="8706" y="10864"/>
                </a:cubicBezTo>
                <a:cubicBezTo>
                  <a:pt x="8877" y="10861"/>
                  <a:pt x="9056" y="10855"/>
                  <a:pt x="9227" y="10840"/>
                </a:cubicBezTo>
                <a:cubicBezTo>
                  <a:pt x="9235" y="10839"/>
                  <a:pt x="9451" y="10840"/>
                  <a:pt x="9451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62640" y="3276720"/>
            <a:ext cx="268200" cy="19080"/>
          </a:xfrm>
          <a:custGeom>
            <a:avLst/>
            <a:gdLst/>
            <a:ahLst/>
            <a:rect l="l" t="t" r="r" b="b"/>
            <a:pathLst>
              <a:path w="745" h="51">
                <a:moveTo>
                  <a:pt x="12700" y="9153"/>
                </a:moveTo>
                <a:cubicBezTo>
                  <a:pt x="12910" y="9153"/>
                  <a:pt x="13139" y="9101"/>
                  <a:pt x="13345" y="9128"/>
                </a:cubicBezTo>
                <a:cubicBezTo>
                  <a:pt x="13353" y="9136"/>
                  <a:pt x="13362" y="9145"/>
                  <a:pt x="13370" y="9153"/>
                </a:cubicBezTo>
                <a:cubicBezTo>
                  <a:pt x="13130" y="9153"/>
                  <a:pt x="12470" y="9221"/>
                  <a:pt x="12700" y="9153"/>
                </a:cubicBezTo>
                <a:cubicBezTo>
                  <a:pt x="12914" y="9089"/>
                  <a:pt x="13171" y="9128"/>
                  <a:pt x="13395" y="9128"/>
                </a:cubicBezTo>
                <a:cubicBezTo>
                  <a:pt x="13512" y="9128"/>
                  <a:pt x="13214" y="9159"/>
                  <a:pt x="13097" y="9153"/>
                </a:cubicBezTo>
                <a:cubicBezTo>
                  <a:pt x="12761" y="9135"/>
                  <a:pt x="12791" y="9152"/>
                  <a:pt x="13047" y="9128"/>
                </a:cubicBezTo>
                <a:cubicBezTo>
                  <a:pt x="13192" y="9114"/>
                  <a:pt x="13177" y="9108"/>
                  <a:pt x="13295" y="91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24040" y="6429240"/>
            <a:ext cx="1357200" cy="71640"/>
          </a:xfrm>
          <a:custGeom>
            <a:avLst/>
            <a:gdLst/>
            <a:ahLst/>
            <a:rect l="l" t="t" r="r" b="b"/>
            <a:pathLst>
              <a:path w="3772" h="200">
                <a:moveTo>
                  <a:pt x="4787" y="17859"/>
                </a:moveTo>
                <a:lnTo>
                  <a:pt x="4787" y="17859"/>
                </a:lnTo>
              </a:path>
              <a:path w="3772" h="200">
                <a:moveTo>
                  <a:pt x="7863" y="18058"/>
                </a:moveTo>
                <a:cubicBezTo>
                  <a:pt x="8011" y="17959"/>
                  <a:pt x="8210" y="17922"/>
                  <a:pt x="8384" y="17884"/>
                </a:cubicBezTo>
                <a:cubicBezTo>
                  <a:pt x="8492" y="17866"/>
                  <a:pt x="8499" y="17858"/>
                  <a:pt x="8558" y="178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95240" y="6000840"/>
            <a:ext cx="1731960" cy="785880"/>
          </a:xfrm>
          <a:custGeom>
            <a:avLst/>
            <a:gdLst/>
            <a:ahLst/>
            <a:rect l="l" t="t" r="r" b="b"/>
            <a:pathLst>
              <a:path w="4813" h="2184">
                <a:moveTo>
                  <a:pt x="4787" y="17859"/>
                </a:moveTo>
                <a:cubicBezTo>
                  <a:pt x="4685" y="17898"/>
                  <a:pt x="4598" y="17887"/>
                  <a:pt x="4490" y="17934"/>
                </a:cubicBezTo>
                <a:cubicBezTo>
                  <a:pt x="4249" y="18039"/>
                  <a:pt x="4097" y="18116"/>
                  <a:pt x="3944" y="18331"/>
                </a:cubicBezTo>
                <a:cubicBezTo>
                  <a:pt x="3885" y="18414"/>
                  <a:pt x="3773" y="18456"/>
                  <a:pt x="3746" y="18554"/>
                </a:cubicBezTo>
                <a:cubicBezTo>
                  <a:pt x="3729" y="18614"/>
                  <a:pt x="3750" y="18642"/>
                  <a:pt x="3721" y="18678"/>
                </a:cubicBezTo>
                <a:cubicBezTo>
                  <a:pt x="3713" y="18688"/>
                  <a:pt x="3653" y="18727"/>
                  <a:pt x="3646" y="18752"/>
                </a:cubicBezTo>
                <a:cubicBezTo>
                  <a:pt x="3640" y="18774"/>
                  <a:pt x="3649" y="18804"/>
                  <a:pt x="3646" y="18827"/>
                </a:cubicBezTo>
                <a:cubicBezTo>
                  <a:pt x="3688" y="18811"/>
                  <a:pt x="3729" y="18793"/>
                  <a:pt x="3770" y="18777"/>
                </a:cubicBezTo>
                <a:cubicBezTo>
                  <a:pt x="4003" y="18683"/>
                  <a:pt x="3872" y="18864"/>
                  <a:pt x="4167" y="18703"/>
                </a:cubicBezTo>
                <a:cubicBezTo>
                  <a:pt x="4334" y="18612"/>
                  <a:pt x="4629" y="18444"/>
                  <a:pt x="4787" y="18504"/>
                </a:cubicBezTo>
                <a:cubicBezTo>
                  <a:pt x="4824" y="18518"/>
                  <a:pt x="4841" y="18531"/>
                  <a:pt x="4936" y="18455"/>
                </a:cubicBezTo>
                <a:cubicBezTo>
                  <a:pt x="4793" y="18486"/>
                  <a:pt x="4698" y="18584"/>
                  <a:pt x="4539" y="18604"/>
                </a:cubicBezTo>
                <a:cubicBezTo>
                  <a:pt x="4410" y="18620"/>
                  <a:pt x="4274" y="18579"/>
                  <a:pt x="4142" y="18579"/>
                </a:cubicBezTo>
                <a:cubicBezTo>
                  <a:pt x="4134" y="18579"/>
                  <a:pt x="4126" y="18579"/>
                  <a:pt x="4118" y="18579"/>
                </a:cubicBezTo>
                <a:cubicBezTo>
                  <a:pt x="4213" y="18487"/>
                  <a:pt x="4341" y="18314"/>
                  <a:pt x="4490" y="18281"/>
                </a:cubicBezTo>
                <a:cubicBezTo>
                  <a:pt x="4490" y="18306"/>
                  <a:pt x="4490" y="18314"/>
                  <a:pt x="4514" y="18306"/>
                </a:cubicBezTo>
              </a:path>
              <a:path w="4813" h="2184">
                <a:moveTo>
                  <a:pt x="2208" y="16669"/>
                </a:moveTo>
                <a:cubicBezTo>
                  <a:pt x="3173" y="16669"/>
                  <a:pt x="4150" y="16631"/>
                  <a:pt x="5110" y="16694"/>
                </a:cubicBezTo>
                <a:cubicBezTo>
                  <a:pt x="5447" y="16716"/>
                  <a:pt x="5790" y="16703"/>
                  <a:pt x="6127" y="16718"/>
                </a:cubicBezTo>
                <a:cubicBezTo>
                  <a:pt x="6269" y="16724"/>
                  <a:pt x="6407" y="16739"/>
                  <a:pt x="6548" y="16743"/>
                </a:cubicBezTo>
                <a:cubicBezTo>
                  <a:pt x="6630" y="16745"/>
                  <a:pt x="6691" y="16766"/>
                  <a:pt x="6772" y="16768"/>
                </a:cubicBezTo>
                <a:cubicBezTo>
                  <a:pt x="6906" y="16771"/>
                  <a:pt x="7140" y="16709"/>
                  <a:pt x="6871" y="16818"/>
                </a:cubicBezTo>
              </a:path>
              <a:path w="4813" h="2184">
                <a:moveTo>
                  <a:pt x="2232" y="16867"/>
                </a:moveTo>
                <a:cubicBezTo>
                  <a:pt x="2392" y="16847"/>
                  <a:pt x="2541" y="16842"/>
                  <a:pt x="2704" y="16842"/>
                </a:cubicBezTo>
                <a:cubicBezTo>
                  <a:pt x="3399" y="16842"/>
                  <a:pt x="4093" y="16841"/>
                  <a:pt x="4787" y="16867"/>
                </a:cubicBezTo>
                <a:cubicBezTo>
                  <a:pt x="5010" y="16875"/>
                  <a:pt x="5236" y="16862"/>
                  <a:pt x="5457" y="16892"/>
                </a:cubicBezTo>
                <a:cubicBezTo>
                  <a:pt x="5643" y="16918"/>
                  <a:pt x="5815" y="16927"/>
                  <a:pt x="6003" y="16942"/>
                </a:cubicBezTo>
                <a:cubicBezTo>
                  <a:pt x="6179" y="16956"/>
                  <a:pt x="6347" y="16966"/>
                  <a:pt x="6524" y="16966"/>
                </a:cubicBezTo>
                <a:cubicBezTo>
                  <a:pt x="6573" y="16966"/>
                  <a:pt x="6623" y="16966"/>
                  <a:pt x="6672" y="169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7960" y="6527880"/>
            <a:ext cx="223920" cy="98280"/>
          </a:xfrm>
          <a:custGeom>
            <a:avLst/>
            <a:gdLst/>
            <a:ahLst/>
            <a:rect l="l" t="t" r="r" b="b"/>
            <a:pathLst>
              <a:path w="621" h="274">
                <a:moveTo>
                  <a:pt x="7913" y="18231"/>
                </a:moveTo>
                <a:cubicBezTo>
                  <a:pt x="8082" y="18211"/>
                  <a:pt x="8239" y="18152"/>
                  <a:pt x="8409" y="18132"/>
                </a:cubicBezTo>
                <a:cubicBezTo>
                  <a:pt x="8604" y="18109"/>
                  <a:pt x="8378" y="18198"/>
                  <a:pt x="8359" y="18207"/>
                </a:cubicBezTo>
              </a:path>
              <a:path w="621" h="274">
                <a:moveTo>
                  <a:pt x="8037" y="18405"/>
                </a:moveTo>
                <a:cubicBezTo>
                  <a:pt x="8134" y="18368"/>
                  <a:pt x="8437" y="18199"/>
                  <a:pt x="8533" y="18231"/>
                </a:cubicBezTo>
                <a:cubicBezTo>
                  <a:pt x="8533" y="18311"/>
                  <a:pt x="8512" y="18349"/>
                  <a:pt x="8434" y="183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5 + (-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9 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+ (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3 +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+ (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2 + 14 + (-10) +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06840" y="3062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0021" y="8508"/>
                </a:moveTo>
                <a:lnTo>
                  <a:pt x="10021" y="850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77920" y="1509840"/>
            <a:ext cx="144360" cy="231480"/>
          </a:xfrm>
          <a:custGeom>
            <a:avLst/>
            <a:gdLst/>
            <a:ahLst/>
            <a:rect l="l" t="t" r="r" b="b"/>
            <a:pathLst>
              <a:path w="398" h="646">
                <a:moveTo>
                  <a:pt x="3671" y="4192"/>
                </a:moveTo>
                <a:cubicBezTo>
                  <a:pt x="3549" y="4192"/>
                  <a:pt x="3360" y="4131"/>
                  <a:pt x="3324" y="4266"/>
                </a:cubicBezTo>
                <a:cubicBezTo>
                  <a:pt x="3302" y="4350"/>
                  <a:pt x="3299" y="4407"/>
                  <a:pt x="3299" y="4490"/>
                </a:cubicBezTo>
                <a:cubicBezTo>
                  <a:pt x="3392" y="4490"/>
                  <a:pt x="3456" y="4400"/>
                  <a:pt x="3547" y="4415"/>
                </a:cubicBezTo>
                <a:cubicBezTo>
                  <a:pt x="3750" y="4449"/>
                  <a:pt x="3642" y="4675"/>
                  <a:pt x="3572" y="4762"/>
                </a:cubicBezTo>
                <a:cubicBezTo>
                  <a:pt x="3498" y="4854"/>
                  <a:pt x="3339" y="4877"/>
                  <a:pt x="3274" y="48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87680" y="1562040"/>
            <a:ext cx="125280" cy="135000"/>
          </a:xfrm>
          <a:custGeom>
            <a:avLst/>
            <a:gdLst/>
            <a:ahLst/>
            <a:rect l="l" t="t" r="r" b="b"/>
            <a:pathLst>
              <a:path w="348" h="373">
                <a:moveTo>
                  <a:pt x="4887" y="4341"/>
                </a:moveTo>
                <a:cubicBezTo>
                  <a:pt x="4887" y="4465"/>
                  <a:pt x="4887" y="4589"/>
                  <a:pt x="4887" y="4713"/>
                </a:cubicBezTo>
              </a:path>
              <a:path w="348" h="373">
                <a:moveTo>
                  <a:pt x="4688" y="4490"/>
                </a:moveTo>
                <a:cubicBezTo>
                  <a:pt x="4776" y="4507"/>
                  <a:pt x="4868" y="4528"/>
                  <a:pt x="4961" y="4539"/>
                </a:cubicBezTo>
                <a:cubicBezTo>
                  <a:pt x="5002" y="4539"/>
                  <a:pt x="5010" y="4539"/>
                  <a:pt x="5035" y="45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25800" y="1527120"/>
            <a:ext cx="9360" cy="187560"/>
          </a:xfrm>
          <a:custGeom>
            <a:avLst/>
            <a:gdLst/>
            <a:ahLst/>
            <a:rect l="l" t="t" r="r" b="b"/>
            <a:pathLst>
              <a:path w="25" h="521">
                <a:moveTo>
                  <a:pt x="5928" y="4242"/>
                </a:moveTo>
                <a:cubicBezTo>
                  <a:pt x="5928" y="4399"/>
                  <a:pt x="5893" y="4586"/>
                  <a:pt x="5904" y="4738"/>
                </a:cubicBezTo>
                <a:cubicBezTo>
                  <a:pt x="5912" y="4746"/>
                  <a:pt x="5920" y="4754"/>
                  <a:pt x="5928" y="47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59000" y="1500120"/>
            <a:ext cx="19080" cy="214560"/>
          </a:xfrm>
          <a:custGeom>
            <a:avLst/>
            <a:gdLst/>
            <a:ahLst/>
            <a:rect l="l" t="t" r="r" b="b"/>
            <a:pathLst>
              <a:path w="50" h="596">
                <a:moveTo>
                  <a:pt x="6276" y="4167"/>
                </a:moveTo>
                <a:cubicBezTo>
                  <a:pt x="6276" y="4301"/>
                  <a:pt x="6315" y="4431"/>
                  <a:pt x="6325" y="4564"/>
                </a:cubicBezTo>
                <a:cubicBezTo>
                  <a:pt x="6331" y="4650"/>
                  <a:pt x="6338" y="4700"/>
                  <a:pt x="6300" y="47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98800" y="2857680"/>
            <a:ext cx="115920" cy="17280"/>
          </a:xfrm>
          <a:custGeom>
            <a:avLst/>
            <a:gdLst/>
            <a:ahLst/>
            <a:rect l="l" t="t" r="r" b="b"/>
            <a:pathLst>
              <a:path w="324" h="50">
                <a:moveTo>
                  <a:pt x="5829" y="7987"/>
                </a:moveTo>
                <a:cubicBezTo>
                  <a:pt x="5929" y="7979"/>
                  <a:pt x="6094" y="7939"/>
                  <a:pt x="6152" y="79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09840" y="1581120"/>
            <a:ext cx="1714320" cy="1347840"/>
          </a:xfrm>
          <a:custGeom>
            <a:avLst/>
            <a:gdLst/>
            <a:ahLst/>
            <a:rect l="l" t="t" r="r" b="b"/>
            <a:pathLst>
              <a:path w="4763" h="3747">
                <a:moveTo>
                  <a:pt x="7863" y="4415"/>
                </a:moveTo>
                <a:cubicBezTo>
                  <a:pt x="7980" y="4408"/>
                  <a:pt x="8093" y="4397"/>
                  <a:pt x="8210" y="4390"/>
                </a:cubicBezTo>
              </a:path>
              <a:path w="4763" h="3747">
                <a:moveTo>
                  <a:pt x="6921" y="6672"/>
                </a:moveTo>
                <a:cubicBezTo>
                  <a:pt x="6983" y="6672"/>
                  <a:pt x="7034" y="6658"/>
                  <a:pt x="7094" y="6648"/>
                </a:cubicBezTo>
              </a:path>
              <a:path w="4763" h="3747">
                <a:moveTo>
                  <a:pt x="6896" y="6821"/>
                </a:moveTo>
                <a:cubicBezTo>
                  <a:pt x="7007" y="6837"/>
                  <a:pt x="6980" y="6839"/>
                  <a:pt x="7069" y="6821"/>
                </a:cubicBezTo>
              </a:path>
              <a:path w="4763" h="3747">
                <a:moveTo>
                  <a:pt x="8062" y="6499"/>
                </a:moveTo>
                <a:cubicBezTo>
                  <a:pt x="8160" y="6419"/>
                  <a:pt x="8256" y="6384"/>
                  <a:pt x="8384" y="6424"/>
                </a:cubicBezTo>
                <a:cubicBezTo>
                  <a:pt x="8586" y="6488"/>
                  <a:pt x="8394" y="6630"/>
                  <a:pt x="8310" y="6672"/>
                </a:cubicBezTo>
                <a:cubicBezTo>
                  <a:pt x="8407" y="6672"/>
                  <a:pt x="8600" y="6647"/>
                  <a:pt x="8533" y="6821"/>
                </a:cubicBezTo>
                <a:cubicBezTo>
                  <a:pt x="8474" y="6976"/>
                  <a:pt x="8318" y="6945"/>
                  <a:pt x="8186" y="6945"/>
                </a:cubicBezTo>
              </a:path>
              <a:path w="4763" h="3747">
                <a:moveTo>
                  <a:pt x="7541" y="6722"/>
                </a:moveTo>
                <a:cubicBezTo>
                  <a:pt x="7574" y="6747"/>
                  <a:pt x="7647" y="6747"/>
                  <a:pt x="7714" y="6747"/>
                </a:cubicBezTo>
              </a:path>
              <a:path w="4763" h="3747">
                <a:moveTo>
                  <a:pt x="4192" y="8136"/>
                </a:moveTo>
                <a:cubicBezTo>
                  <a:pt x="4260" y="8106"/>
                  <a:pt x="4383" y="8085"/>
                  <a:pt x="4415" y="8062"/>
                </a:cubicBezTo>
              </a:path>
              <a:path w="4763" h="3747">
                <a:moveTo>
                  <a:pt x="5978" y="8136"/>
                </a:moveTo>
                <a:cubicBezTo>
                  <a:pt x="6082" y="8112"/>
                  <a:pt x="6177" y="8082"/>
                  <a:pt x="6276" y="8062"/>
                </a:cubicBezTo>
              </a:path>
              <a:path w="4763" h="3747">
                <a:moveTo>
                  <a:pt x="7367" y="7169"/>
                </a:moveTo>
                <a:cubicBezTo>
                  <a:pt x="7546" y="7223"/>
                  <a:pt x="7700" y="7241"/>
                  <a:pt x="7888" y="7243"/>
                </a:cubicBezTo>
                <a:cubicBezTo>
                  <a:pt x="8191" y="7247"/>
                  <a:pt x="8491" y="7236"/>
                  <a:pt x="8756" y="7069"/>
                </a:cubicBezTo>
                <a:cubicBezTo>
                  <a:pt x="8981" y="6927"/>
                  <a:pt x="8972" y="6758"/>
                  <a:pt x="8905" y="6524"/>
                </a:cubicBezTo>
                <a:cubicBezTo>
                  <a:pt x="8854" y="6348"/>
                  <a:pt x="8750" y="6204"/>
                  <a:pt x="8582" y="6127"/>
                </a:cubicBezTo>
                <a:cubicBezTo>
                  <a:pt x="8367" y="6028"/>
                  <a:pt x="7995" y="6006"/>
                  <a:pt x="7764" y="6052"/>
                </a:cubicBezTo>
                <a:cubicBezTo>
                  <a:pt x="7382" y="6128"/>
                  <a:pt x="7189" y="6412"/>
                  <a:pt x="7218" y="6796"/>
                </a:cubicBezTo>
                <a:cubicBezTo>
                  <a:pt x="7243" y="7124"/>
                  <a:pt x="7379" y="7120"/>
                  <a:pt x="7615" y="71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30680" y="1276200"/>
            <a:ext cx="893520" cy="563760"/>
          </a:xfrm>
          <a:custGeom>
            <a:avLst/>
            <a:gdLst/>
            <a:ahLst/>
            <a:rect l="l" t="t" r="r" b="b"/>
            <a:pathLst>
              <a:path w="2482" h="1564">
                <a:moveTo>
                  <a:pt x="7863" y="4663"/>
                </a:moveTo>
                <a:cubicBezTo>
                  <a:pt x="7998" y="4663"/>
                  <a:pt x="8126" y="4644"/>
                  <a:pt x="8260" y="4638"/>
                </a:cubicBezTo>
                <a:cubicBezTo>
                  <a:pt x="8268" y="4638"/>
                  <a:pt x="8277" y="4638"/>
                  <a:pt x="8285" y="4638"/>
                </a:cubicBezTo>
              </a:path>
              <a:path w="2482" h="1564">
                <a:moveTo>
                  <a:pt x="9103" y="4167"/>
                </a:moveTo>
                <a:cubicBezTo>
                  <a:pt x="9119" y="4370"/>
                  <a:pt x="9105" y="4536"/>
                  <a:pt x="9079" y="4738"/>
                </a:cubicBezTo>
                <a:cubicBezTo>
                  <a:pt x="9079" y="4762"/>
                  <a:pt x="9079" y="4770"/>
                  <a:pt x="9103" y="4762"/>
                </a:cubicBezTo>
              </a:path>
              <a:path w="2482" h="1564">
                <a:moveTo>
                  <a:pt x="9475" y="4192"/>
                </a:moveTo>
                <a:cubicBezTo>
                  <a:pt x="9475" y="4332"/>
                  <a:pt x="9435" y="4538"/>
                  <a:pt x="9500" y="4663"/>
                </a:cubicBezTo>
                <a:cubicBezTo>
                  <a:pt x="9560" y="4777"/>
                  <a:pt x="9731" y="4771"/>
                  <a:pt x="9823" y="4688"/>
                </a:cubicBezTo>
                <a:cubicBezTo>
                  <a:pt x="9839" y="4673"/>
                  <a:pt x="9907" y="4529"/>
                  <a:pt x="9897" y="4514"/>
                </a:cubicBezTo>
                <a:cubicBezTo>
                  <a:pt x="9880" y="4498"/>
                  <a:pt x="9864" y="4481"/>
                  <a:pt x="9847" y="4465"/>
                </a:cubicBezTo>
                <a:cubicBezTo>
                  <a:pt x="9735" y="4465"/>
                  <a:pt x="9731" y="4551"/>
                  <a:pt x="9699" y="4638"/>
                </a:cubicBezTo>
                <a:cubicBezTo>
                  <a:pt x="9677" y="4703"/>
                  <a:pt x="9669" y="4718"/>
                  <a:pt x="9674" y="4762"/>
                </a:cubicBezTo>
              </a:path>
              <a:path w="2482" h="1564">
                <a:moveTo>
                  <a:pt x="8607" y="4217"/>
                </a:moveTo>
                <a:cubicBezTo>
                  <a:pt x="8667" y="4217"/>
                  <a:pt x="8722" y="4237"/>
                  <a:pt x="8781" y="4242"/>
                </a:cubicBezTo>
                <a:cubicBezTo>
                  <a:pt x="8789" y="4242"/>
                  <a:pt x="8798" y="4242"/>
                  <a:pt x="8806" y="4242"/>
                </a:cubicBezTo>
              </a:path>
              <a:path w="2482" h="1564">
                <a:moveTo>
                  <a:pt x="8731" y="5060"/>
                </a:moveTo>
                <a:cubicBezTo>
                  <a:pt x="8955" y="5110"/>
                  <a:pt x="9195" y="5139"/>
                  <a:pt x="9426" y="5110"/>
                </a:cubicBezTo>
                <a:cubicBezTo>
                  <a:pt x="9709" y="5075"/>
                  <a:pt x="10023" y="4942"/>
                  <a:pt x="10195" y="4713"/>
                </a:cubicBezTo>
                <a:cubicBezTo>
                  <a:pt x="10320" y="4547"/>
                  <a:pt x="10365" y="4318"/>
                  <a:pt x="10319" y="4118"/>
                </a:cubicBezTo>
                <a:cubicBezTo>
                  <a:pt x="10263" y="3872"/>
                  <a:pt x="10024" y="3725"/>
                  <a:pt x="9798" y="3646"/>
                </a:cubicBezTo>
                <a:cubicBezTo>
                  <a:pt x="9500" y="3541"/>
                  <a:pt x="9213" y="3539"/>
                  <a:pt x="8905" y="3572"/>
                </a:cubicBezTo>
                <a:cubicBezTo>
                  <a:pt x="8615" y="3603"/>
                  <a:pt x="8444" y="3665"/>
                  <a:pt x="8310" y="3944"/>
                </a:cubicBezTo>
                <a:cubicBezTo>
                  <a:pt x="8137" y="4304"/>
                  <a:pt x="8194" y="4656"/>
                  <a:pt x="8533" y="4887"/>
                </a:cubicBezTo>
                <a:cubicBezTo>
                  <a:pt x="8599" y="4912"/>
                  <a:pt x="8665" y="4936"/>
                  <a:pt x="8731" y="49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7920" y="2160720"/>
            <a:ext cx="90360" cy="206280"/>
          </a:xfrm>
          <a:custGeom>
            <a:avLst/>
            <a:gdLst/>
            <a:ahLst/>
            <a:rect l="l" t="t" r="r" b="b"/>
            <a:pathLst>
              <a:path w="249" h="571">
                <a:moveTo>
                  <a:pt x="3522" y="6077"/>
                </a:moveTo>
                <a:cubicBezTo>
                  <a:pt x="3522" y="6113"/>
                  <a:pt x="3511" y="6003"/>
                  <a:pt x="3423" y="6003"/>
                </a:cubicBezTo>
                <a:cubicBezTo>
                  <a:pt x="3301" y="6003"/>
                  <a:pt x="3287" y="6166"/>
                  <a:pt x="3274" y="6251"/>
                </a:cubicBezTo>
                <a:cubicBezTo>
                  <a:pt x="3361" y="6236"/>
                  <a:pt x="3440" y="6225"/>
                  <a:pt x="3473" y="6127"/>
                </a:cubicBezTo>
                <a:cubicBezTo>
                  <a:pt x="3473" y="6119"/>
                  <a:pt x="3473" y="6110"/>
                  <a:pt x="3473" y="6102"/>
                </a:cubicBezTo>
                <a:cubicBezTo>
                  <a:pt x="3514" y="6243"/>
                  <a:pt x="3516" y="6399"/>
                  <a:pt x="3522" y="6548"/>
                </a:cubicBezTo>
                <a:cubicBezTo>
                  <a:pt x="3522" y="6556"/>
                  <a:pt x="3522" y="6565"/>
                  <a:pt x="3522" y="65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89040" y="2295360"/>
            <a:ext cx="117360" cy="9720"/>
          </a:xfrm>
          <a:custGeom>
            <a:avLst/>
            <a:gdLst/>
            <a:ahLst/>
            <a:rect l="l" t="t" r="r" b="b"/>
            <a:pathLst>
              <a:path w="324" h="26">
                <a:moveTo>
                  <a:pt x="4415" y="6400"/>
                </a:moveTo>
                <a:cubicBezTo>
                  <a:pt x="4435" y="6339"/>
                  <a:pt x="4623" y="6375"/>
                  <a:pt x="4688" y="6375"/>
                </a:cubicBezTo>
                <a:cubicBezTo>
                  <a:pt x="4705" y="6375"/>
                  <a:pt x="4721" y="6375"/>
                  <a:pt x="4738" y="63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47880" y="2232000"/>
            <a:ext cx="125280" cy="169920"/>
          </a:xfrm>
          <a:custGeom>
            <a:avLst/>
            <a:gdLst/>
            <a:ahLst/>
            <a:rect l="l" t="t" r="r" b="b"/>
            <a:pathLst>
              <a:path w="348" h="472">
                <a:moveTo>
                  <a:pt x="5259" y="6201"/>
                </a:moveTo>
                <a:cubicBezTo>
                  <a:pt x="5176" y="6283"/>
                  <a:pt x="5155" y="6444"/>
                  <a:pt x="5135" y="6573"/>
                </a:cubicBezTo>
                <a:cubicBezTo>
                  <a:pt x="5119" y="6676"/>
                  <a:pt x="5214" y="6663"/>
                  <a:pt x="5283" y="6648"/>
                </a:cubicBezTo>
                <a:cubicBezTo>
                  <a:pt x="5388" y="6625"/>
                  <a:pt x="5422" y="6611"/>
                  <a:pt x="5457" y="6548"/>
                </a:cubicBezTo>
                <a:cubicBezTo>
                  <a:pt x="5490" y="6488"/>
                  <a:pt x="5474" y="6524"/>
                  <a:pt x="5457" y="6474"/>
                </a:cubicBezTo>
                <a:cubicBezTo>
                  <a:pt x="5411" y="6474"/>
                  <a:pt x="5350" y="6494"/>
                  <a:pt x="5333" y="6548"/>
                </a:cubicBezTo>
                <a:cubicBezTo>
                  <a:pt x="5320" y="6590"/>
                  <a:pt x="5318" y="6632"/>
                  <a:pt x="5308" y="66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33640" y="2776680"/>
            <a:ext cx="152280" cy="223560"/>
          </a:xfrm>
          <a:custGeom>
            <a:avLst/>
            <a:gdLst/>
            <a:ahLst/>
            <a:rect l="l" t="t" r="r" b="b"/>
            <a:pathLst>
              <a:path w="423" h="621">
                <a:moveTo>
                  <a:pt x="3324" y="7714"/>
                </a:moveTo>
                <a:cubicBezTo>
                  <a:pt x="3210" y="7870"/>
                  <a:pt x="3115" y="8056"/>
                  <a:pt x="3175" y="8260"/>
                </a:cubicBezTo>
                <a:cubicBezTo>
                  <a:pt x="3192" y="8285"/>
                  <a:pt x="3208" y="8309"/>
                  <a:pt x="3225" y="8334"/>
                </a:cubicBezTo>
                <a:cubicBezTo>
                  <a:pt x="3376" y="8270"/>
                  <a:pt x="3635" y="8156"/>
                  <a:pt x="3547" y="7938"/>
                </a:cubicBezTo>
                <a:cubicBezTo>
                  <a:pt x="3510" y="7845"/>
                  <a:pt x="3392" y="7746"/>
                  <a:pt x="3324" y="78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12960" y="2776680"/>
            <a:ext cx="108000" cy="171360"/>
          </a:xfrm>
          <a:custGeom>
            <a:avLst/>
            <a:gdLst/>
            <a:ahLst/>
            <a:rect l="l" t="t" r="r" b="b"/>
            <a:pathLst>
              <a:path w="299" h="473">
                <a:moveTo>
                  <a:pt x="5035" y="7813"/>
                </a:moveTo>
                <a:cubicBezTo>
                  <a:pt x="5057" y="7750"/>
                  <a:pt x="5214" y="7726"/>
                  <a:pt x="5283" y="7714"/>
                </a:cubicBezTo>
                <a:cubicBezTo>
                  <a:pt x="5300" y="7714"/>
                  <a:pt x="5316" y="7714"/>
                  <a:pt x="5333" y="7714"/>
                </a:cubicBezTo>
                <a:cubicBezTo>
                  <a:pt x="5333" y="7850"/>
                  <a:pt x="5299" y="7976"/>
                  <a:pt x="5283" y="8111"/>
                </a:cubicBezTo>
                <a:cubicBezTo>
                  <a:pt x="5283" y="8153"/>
                  <a:pt x="5283" y="8161"/>
                  <a:pt x="5283" y="81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63840" y="2732040"/>
            <a:ext cx="600120" cy="206280"/>
          </a:xfrm>
          <a:custGeom>
            <a:avLst/>
            <a:gdLst/>
            <a:ahLst/>
            <a:rect l="l" t="t" r="r" b="b"/>
            <a:pathLst>
              <a:path w="1663" h="572">
                <a:moveTo>
                  <a:pt x="6846" y="7665"/>
                </a:moveTo>
                <a:cubicBezTo>
                  <a:pt x="6980" y="7665"/>
                  <a:pt x="7089" y="7623"/>
                  <a:pt x="7218" y="7590"/>
                </a:cubicBezTo>
                <a:cubicBezTo>
                  <a:pt x="7207" y="7759"/>
                  <a:pt x="7173" y="7920"/>
                  <a:pt x="7144" y="8086"/>
                </a:cubicBezTo>
                <a:cubicBezTo>
                  <a:pt x="7144" y="8094"/>
                  <a:pt x="7144" y="8103"/>
                  <a:pt x="7144" y="8111"/>
                </a:cubicBezTo>
              </a:path>
              <a:path w="1663" h="572">
                <a:moveTo>
                  <a:pt x="7417" y="7863"/>
                </a:moveTo>
                <a:cubicBezTo>
                  <a:pt x="7546" y="7844"/>
                  <a:pt x="7654" y="7813"/>
                  <a:pt x="7789" y="7813"/>
                </a:cubicBezTo>
              </a:path>
              <a:path w="1663" h="572">
                <a:moveTo>
                  <a:pt x="8136" y="7739"/>
                </a:moveTo>
                <a:cubicBezTo>
                  <a:pt x="8025" y="7890"/>
                  <a:pt x="8029" y="7923"/>
                  <a:pt x="8037" y="8111"/>
                </a:cubicBezTo>
                <a:cubicBezTo>
                  <a:pt x="8185" y="8138"/>
                  <a:pt x="8586" y="8129"/>
                  <a:pt x="8508" y="7838"/>
                </a:cubicBezTo>
                <a:cubicBezTo>
                  <a:pt x="8474" y="7712"/>
                  <a:pt x="8302" y="7720"/>
                  <a:pt x="8210" y="76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59080" y="2705040"/>
            <a:ext cx="571680" cy="233280"/>
          </a:xfrm>
          <a:custGeom>
            <a:avLst/>
            <a:gdLst/>
            <a:ahLst/>
            <a:rect l="l" t="t" r="r" b="b"/>
            <a:pathLst>
              <a:path w="1588" h="646">
                <a:moveTo>
                  <a:pt x="9054" y="7764"/>
                </a:moveTo>
                <a:cubicBezTo>
                  <a:pt x="9171" y="7747"/>
                  <a:pt x="9280" y="7668"/>
                  <a:pt x="9401" y="7689"/>
                </a:cubicBezTo>
                <a:cubicBezTo>
                  <a:pt x="9401" y="7697"/>
                  <a:pt x="9401" y="7706"/>
                  <a:pt x="9401" y="7714"/>
                </a:cubicBezTo>
              </a:path>
              <a:path w="1588" h="646">
                <a:moveTo>
                  <a:pt x="9128" y="7962"/>
                </a:moveTo>
                <a:cubicBezTo>
                  <a:pt x="9302" y="7913"/>
                  <a:pt x="9360" y="7897"/>
                  <a:pt x="9475" y="7863"/>
                </a:cubicBezTo>
              </a:path>
              <a:path w="1588" h="646">
                <a:moveTo>
                  <a:pt x="9872" y="7541"/>
                </a:moveTo>
                <a:cubicBezTo>
                  <a:pt x="10105" y="7541"/>
                  <a:pt x="10334" y="7522"/>
                  <a:pt x="10567" y="7516"/>
                </a:cubicBezTo>
                <a:cubicBezTo>
                  <a:pt x="10608" y="7516"/>
                  <a:pt x="10616" y="7516"/>
                  <a:pt x="10641" y="7516"/>
                </a:cubicBezTo>
                <a:cubicBezTo>
                  <a:pt x="10596" y="7699"/>
                  <a:pt x="10484" y="7859"/>
                  <a:pt x="10418" y="8037"/>
                </a:cubicBezTo>
                <a:cubicBezTo>
                  <a:pt x="10399" y="8111"/>
                  <a:pt x="10391" y="8118"/>
                  <a:pt x="10393" y="8161"/>
                </a:cubicBezTo>
              </a:path>
              <a:path w="1588" h="646">
                <a:moveTo>
                  <a:pt x="9798" y="8062"/>
                </a:moveTo>
                <a:cubicBezTo>
                  <a:pt x="9900" y="8047"/>
                  <a:pt x="9992" y="8037"/>
                  <a:pt x="10096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58920" y="3384720"/>
            <a:ext cx="214200" cy="179280"/>
          </a:xfrm>
          <a:custGeom>
            <a:avLst/>
            <a:gdLst/>
            <a:ahLst/>
            <a:rect l="l" t="t" r="r" b="b"/>
            <a:pathLst>
              <a:path w="597" h="497">
                <a:moveTo>
                  <a:pt x="3497" y="9525"/>
                </a:moveTo>
                <a:cubicBezTo>
                  <a:pt x="3513" y="9622"/>
                  <a:pt x="3521" y="9847"/>
                  <a:pt x="3572" y="9897"/>
                </a:cubicBezTo>
              </a:path>
              <a:path w="597" h="497">
                <a:moveTo>
                  <a:pt x="3820" y="9451"/>
                </a:moveTo>
                <a:cubicBezTo>
                  <a:pt x="3839" y="9425"/>
                  <a:pt x="4000" y="9340"/>
                  <a:pt x="3994" y="9451"/>
                </a:cubicBezTo>
                <a:cubicBezTo>
                  <a:pt x="3968" y="9529"/>
                  <a:pt x="3957" y="9556"/>
                  <a:pt x="3919" y="9599"/>
                </a:cubicBezTo>
                <a:cubicBezTo>
                  <a:pt x="3911" y="9607"/>
                  <a:pt x="3902" y="9616"/>
                  <a:pt x="3894" y="9624"/>
                </a:cubicBezTo>
                <a:cubicBezTo>
                  <a:pt x="3966" y="9612"/>
                  <a:pt x="4018" y="9604"/>
                  <a:pt x="4093" y="9599"/>
                </a:cubicBezTo>
                <a:cubicBezTo>
                  <a:pt x="4055" y="9778"/>
                  <a:pt x="4021" y="9824"/>
                  <a:pt x="3845" y="98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12960" y="3483000"/>
            <a:ext cx="98280" cy="1440"/>
          </a:xfrm>
          <a:custGeom>
            <a:avLst/>
            <a:gdLst/>
            <a:ahLst/>
            <a:rect l="l" t="t" r="r" b="b"/>
            <a:pathLst>
              <a:path w="274" h="1">
                <a:moveTo>
                  <a:pt x="5035" y="9674"/>
                </a:moveTo>
                <a:cubicBezTo>
                  <a:pt x="5126" y="9674"/>
                  <a:pt x="5217" y="9674"/>
                  <a:pt x="5308" y="96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62080" y="3357720"/>
            <a:ext cx="189000" cy="187200"/>
          </a:xfrm>
          <a:custGeom>
            <a:avLst/>
            <a:gdLst/>
            <a:ahLst/>
            <a:rect l="l" t="t" r="r" b="b"/>
            <a:pathLst>
              <a:path w="522" h="521">
                <a:moveTo>
                  <a:pt x="5730" y="9475"/>
                </a:moveTo>
                <a:cubicBezTo>
                  <a:pt x="5730" y="9599"/>
                  <a:pt x="5758" y="9703"/>
                  <a:pt x="5779" y="9823"/>
                </a:cubicBezTo>
                <a:cubicBezTo>
                  <a:pt x="5779" y="9831"/>
                  <a:pt x="5779" y="9839"/>
                  <a:pt x="5779" y="9847"/>
                </a:cubicBezTo>
              </a:path>
              <a:path w="522" h="521">
                <a:moveTo>
                  <a:pt x="6152" y="9327"/>
                </a:moveTo>
                <a:cubicBezTo>
                  <a:pt x="6128" y="9345"/>
                  <a:pt x="6006" y="9418"/>
                  <a:pt x="6003" y="9451"/>
                </a:cubicBezTo>
                <a:cubicBezTo>
                  <a:pt x="6003" y="9495"/>
                  <a:pt x="6006" y="9509"/>
                  <a:pt x="5978" y="9525"/>
                </a:cubicBezTo>
                <a:cubicBezTo>
                  <a:pt x="6057" y="9551"/>
                  <a:pt x="6165" y="9449"/>
                  <a:pt x="6226" y="9550"/>
                </a:cubicBezTo>
                <a:cubicBezTo>
                  <a:pt x="6334" y="9730"/>
                  <a:pt x="6098" y="9724"/>
                  <a:pt x="6003" y="97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920" y="3384720"/>
            <a:ext cx="106200" cy="36360"/>
          </a:xfrm>
          <a:custGeom>
            <a:avLst/>
            <a:gdLst/>
            <a:ahLst/>
            <a:rect l="l" t="t" r="r" b="b"/>
            <a:pathLst>
              <a:path w="299" h="100">
                <a:moveTo>
                  <a:pt x="6970" y="9500"/>
                </a:moveTo>
                <a:cubicBezTo>
                  <a:pt x="7072" y="9461"/>
                  <a:pt x="7169" y="9434"/>
                  <a:pt x="7268" y="94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3929040"/>
            <a:ext cx="250920" cy="214200"/>
          </a:xfrm>
          <a:custGeom>
            <a:avLst/>
            <a:gdLst/>
            <a:ahLst/>
            <a:rect l="l" t="t" r="r" b="b"/>
            <a:pathLst>
              <a:path w="696" h="596">
                <a:moveTo>
                  <a:pt x="3175" y="11013"/>
                </a:moveTo>
                <a:cubicBezTo>
                  <a:pt x="3237" y="11075"/>
                  <a:pt x="3223" y="11299"/>
                  <a:pt x="3225" y="11410"/>
                </a:cubicBezTo>
                <a:cubicBezTo>
                  <a:pt x="3225" y="11484"/>
                  <a:pt x="3225" y="11542"/>
                  <a:pt x="3225" y="11485"/>
                </a:cubicBezTo>
              </a:path>
              <a:path w="696" h="596">
                <a:moveTo>
                  <a:pt x="3721" y="10914"/>
                </a:moveTo>
                <a:cubicBezTo>
                  <a:pt x="3675" y="10984"/>
                  <a:pt x="3666" y="10890"/>
                  <a:pt x="3621" y="11013"/>
                </a:cubicBezTo>
                <a:cubicBezTo>
                  <a:pt x="3603" y="11062"/>
                  <a:pt x="3582" y="11113"/>
                  <a:pt x="3572" y="11162"/>
                </a:cubicBezTo>
                <a:cubicBezTo>
                  <a:pt x="3670" y="11146"/>
                  <a:pt x="3761" y="11069"/>
                  <a:pt x="3845" y="11162"/>
                </a:cubicBezTo>
                <a:cubicBezTo>
                  <a:pt x="3967" y="11297"/>
                  <a:pt x="3757" y="11432"/>
                  <a:pt x="3646" y="11435"/>
                </a:cubicBezTo>
                <a:cubicBezTo>
                  <a:pt x="3621" y="11427"/>
                  <a:pt x="3597" y="11418"/>
                  <a:pt x="3572" y="114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31960" y="4027320"/>
            <a:ext cx="90360" cy="17640"/>
          </a:xfrm>
          <a:custGeom>
            <a:avLst/>
            <a:gdLst/>
            <a:ahLst/>
            <a:rect l="l" t="t" r="r" b="b"/>
            <a:pathLst>
              <a:path w="249" h="51">
                <a:moveTo>
                  <a:pt x="4812" y="11237"/>
                </a:moveTo>
                <a:cubicBezTo>
                  <a:pt x="4896" y="11189"/>
                  <a:pt x="4961" y="11187"/>
                  <a:pt x="5060" y="111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54160" y="3902040"/>
            <a:ext cx="133560" cy="196920"/>
          </a:xfrm>
          <a:custGeom>
            <a:avLst/>
            <a:gdLst/>
            <a:ahLst/>
            <a:rect l="l" t="t" r="r" b="b"/>
            <a:pathLst>
              <a:path w="373" h="546">
                <a:moveTo>
                  <a:pt x="6077" y="10840"/>
                </a:moveTo>
                <a:cubicBezTo>
                  <a:pt x="5936" y="10896"/>
                  <a:pt x="5821" y="10939"/>
                  <a:pt x="5705" y="11038"/>
                </a:cubicBezTo>
                <a:cubicBezTo>
                  <a:pt x="5806" y="11092"/>
                  <a:pt x="6091" y="11142"/>
                  <a:pt x="6028" y="11311"/>
                </a:cubicBezTo>
                <a:cubicBezTo>
                  <a:pt x="6003" y="11336"/>
                  <a:pt x="5978" y="11360"/>
                  <a:pt x="5953" y="11385"/>
                </a:cubicBezTo>
                <a:cubicBezTo>
                  <a:pt x="5841" y="11290"/>
                  <a:pt x="5946" y="11103"/>
                  <a:pt x="6028" y="10964"/>
                </a:cubicBezTo>
                <a:cubicBezTo>
                  <a:pt x="6050" y="10941"/>
                  <a:pt x="6058" y="10936"/>
                  <a:pt x="6052" y="109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90840" y="3848040"/>
            <a:ext cx="644400" cy="438120"/>
          </a:xfrm>
          <a:custGeom>
            <a:avLst/>
            <a:gdLst/>
            <a:ahLst/>
            <a:rect l="l" t="t" r="r" b="b"/>
            <a:pathLst>
              <a:path w="1786" h="1216">
                <a:moveTo>
                  <a:pt x="6945" y="11187"/>
                </a:moveTo>
                <a:cubicBezTo>
                  <a:pt x="7002" y="11187"/>
                  <a:pt x="7041" y="11173"/>
                  <a:pt x="7094" y="11162"/>
                </a:cubicBezTo>
              </a:path>
              <a:path w="1786" h="1216">
                <a:moveTo>
                  <a:pt x="6921" y="11336"/>
                </a:moveTo>
                <a:cubicBezTo>
                  <a:pt x="7005" y="11331"/>
                  <a:pt x="7103" y="11319"/>
                  <a:pt x="7169" y="11336"/>
                </a:cubicBezTo>
              </a:path>
              <a:path w="1786" h="1216">
                <a:moveTo>
                  <a:pt x="7665" y="11063"/>
                </a:moveTo>
                <a:cubicBezTo>
                  <a:pt x="7805" y="11030"/>
                  <a:pt x="7943" y="11000"/>
                  <a:pt x="8086" y="10988"/>
                </a:cubicBezTo>
                <a:cubicBezTo>
                  <a:pt x="8123" y="11116"/>
                  <a:pt x="8053" y="11312"/>
                  <a:pt x="8037" y="11460"/>
                </a:cubicBezTo>
                <a:cubicBezTo>
                  <a:pt x="8037" y="11501"/>
                  <a:pt x="8037" y="11509"/>
                  <a:pt x="8037" y="11534"/>
                </a:cubicBezTo>
              </a:path>
              <a:path w="1786" h="1216">
                <a:moveTo>
                  <a:pt x="7441" y="11609"/>
                </a:moveTo>
                <a:cubicBezTo>
                  <a:pt x="7480" y="11778"/>
                  <a:pt x="7599" y="11881"/>
                  <a:pt x="7789" y="11906"/>
                </a:cubicBezTo>
                <a:cubicBezTo>
                  <a:pt x="8064" y="11942"/>
                  <a:pt x="8518" y="11790"/>
                  <a:pt x="8657" y="11534"/>
                </a:cubicBezTo>
                <a:cubicBezTo>
                  <a:pt x="8790" y="11289"/>
                  <a:pt x="8639" y="10902"/>
                  <a:pt x="8409" y="10765"/>
                </a:cubicBezTo>
                <a:cubicBezTo>
                  <a:pt x="8215" y="10649"/>
                  <a:pt x="7823" y="10651"/>
                  <a:pt x="7615" y="10740"/>
                </a:cubicBezTo>
                <a:cubicBezTo>
                  <a:pt x="7286" y="10881"/>
                  <a:pt x="7271" y="11380"/>
                  <a:pt x="7417" y="11658"/>
                </a:cubicBezTo>
                <a:cubicBezTo>
                  <a:pt x="7575" y="11817"/>
                  <a:pt x="7612" y="11869"/>
                  <a:pt x="7764" y="118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0960" y="2517840"/>
            <a:ext cx="3321000" cy="3009960"/>
          </a:xfrm>
          <a:custGeom>
            <a:avLst/>
            <a:gdLst/>
            <a:ahLst/>
            <a:rect l="l" t="t" r="r" b="b"/>
            <a:pathLst>
              <a:path w="9228" h="8360">
                <a:moveTo>
                  <a:pt x="2084" y="15354"/>
                </a:moveTo>
                <a:cubicBezTo>
                  <a:pt x="2100" y="15354"/>
                  <a:pt x="2117" y="15354"/>
                  <a:pt x="2133" y="15354"/>
                </a:cubicBezTo>
              </a:path>
              <a:path w="9228" h="8360">
                <a:moveTo>
                  <a:pt x="9475" y="7863"/>
                </a:moveTo>
                <a:lnTo>
                  <a:pt x="9475" y="7863"/>
                </a:lnTo>
              </a:path>
              <a:path w="9228" h="8360">
                <a:moveTo>
                  <a:pt x="9748" y="8533"/>
                </a:moveTo>
                <a:cubicBezTo>
                  <a:pt x="10136" y="8581"/>
                  <a:pt x="10524" y="8571"/>
                  <a:pt x="10889" y="8384"/>
                </a:cubicBezTo>
                <a:cubicBezTo>
                  <a:pt x="11241" y="8204"/>
                  <a:pt x="11455" y="7701"/>
                  <a:pt x="11212" y="7342"/>
                </a:cubicBezTo>
                <a:cubicBezTo>
                  <a:pt x="10917" y="6906"/>
                  <a:pt x="10130" y="6876"/>
                  <a:pt x="9748" y="7218"/>
                </a:cubicBezTo>
                <a:cubicBezTo>
                  <a:pt x="9318" y="7603"/>
                  <a:pt x="9481" y="7936"/>
                  <a:pt x="9624" y="8359"/>
                </a:cubicBezTo>
              </a:path>
              <a:path w="9228" h="8360">
                <a:moveTo>
                  <a:pt x="7193" y="9649"/>
                </a:moveTo>
                <a:cubicBezTo>
                  <a:pt x="7323" y="9615"/>
                  <a:pt x="7433" y="9598"/>
                  <a:pt x="7565" y="9575"/>
                </a:cubicBezTo>
              </a:path>
              <a:path w="9228" h="8360">
                <a:moveTo>
                  <a:pt x="8037" y="9475"/>
                </a:moveTo>
                <a:cubicBezTo>
                  <a:pt x="8046" y="9609"/>
                  <a:pt x="8079" y="9720"/>
                  <a:pt x="8111" y="9847"/>
                </a:cubicBezTo>
              </a:path>
              <a:path w="9228" h="8360">
                <a:moveTo>
                  <a:pt x="8409" y="9451"/>
                </a:moveTo>
                <a:cubicBezTo>
                  <a:pt x="8401" y="9476"/>
                  <a:pt x="8392" y="9500"/>
                  <a:pt x="8384" y="9525"/>
                </a:cubicBezTo>
                <a:cubicBezTo>
                  <a:pt x="8463" y="9561"/>
                  <a:pt x="8689" y="9612"/>
                  <a:pt x="8632" y="9748"/>
                </a:cubicBezTo>
                <a:cubicBezTo>
                  <a:pt x="8555" y="9787"/>
                  <a:pt x="8507" y="9795"/>
                  <a:pt x="8434" y="9773"/>
                </a:cubicBezTo>
              </a:path>
              <a:path w="9228" h="8360">
                <a:moveTo>
                  <a:pt x="8458" y="9376"/>
                </a:moveTo>
                <a:cubicBezTo>
                  <a:pt x="8612" y="9351"/>
                  <a:pt x="8639" y="9347"/>
                  <a:pt x="8781" y="9401"/>
                </a:cubicBezTo>
              </a:path>
              <a:path w="9228" h="8360">
                <a:moveTo>
                  <a:pt x="8905" y="9525"/>
                </a:moveTo>
                <a:cubicBezTo>
                  <a:pt x="8999" y="9525"/>
                  <a:pt x="9042" y="9518"/>
                  <a:pt x="9103" y="9475"/>
                </a:cubicBezTo>
              </a:path>
              <a:path w="9228" h="8360">
                <a:moveTo>
                  <a:pt x="9103" y="9475"/>
                </a:moveTo>
                <a:lnTo>
                  <a:pt x="9103" y="9475"/>
                </a:lnTo>
              </a:path>
              <a:path w="9228" h="8360">
                <a:moveTo>
                  <a:pt x="9401" y="9351"/>
                </a:moveTo>
                <a:cubicBezTo>
                  <a:pt x="9427" y="9466"/>
                  <a:pt x="9460" y="9588"/>
                  <a:pt x="9500" y="9699"/>
                </a:cubicBezTo>
              </a:path>
              <a:path w="9228" h="8360">
                <a:moveTo>
                  <a:pt x="10393" y="9401"/>
                </a:moveTo>
                <a:cubicBezTo>
                  <a:pt x="10492" y="9376"/>
                  <a:pt x="10526" y="9368"/>
                  <a:pt x="10592" y="9351"/>
                </a:cubicBezTo>
              </a:path>
              <a:path w="9228" h="8360">
                <a:moveTo>
                  <a:pt x="10468" y="9525"/>
                </a:moveTo>
                <a:cubicBezTo>
                  <a:pt x="10634" y="9493"/>
                  <a:pt x="10799" y="9461"/>
                  <a:pt x="10964" y="94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6120" y="4680000"/>
            <a:ext cx="563760" cy="554040"/>
          </a:xfrm>
          <a:custGeom>
            <a:avLst/>
            <a:gdLst/>
            <a:ahLst/>
            <a:rect l="l" t="t" r="r" b="b"/>
            <a:pathLst>
              <a:path w="1564" h="1539">
                <a:moveTo>
                  <a:pt x="1017" y="14387"/>
                </a:moveTo>
                <a:cubicBezTo>
                  <a:pt x="1085" y="14447"/>
                  <a:pt x="1171" y="14523"/>
                  <a:pt x="1265" y="14536"/>
                </a:cubicBezTo>
                <a:cubicBezTo>
                  <a:pt x="1411" y="14556"/>
                  <a:pt x="1597" y="14527"/>
                  <a:pt x="1736" y="14486"/>
                </a:cubicBezTo>
                <a:cubicBezTo>
                  <a:pt x="1897" y="14439"/>
                  <a:pt x="2015" y="14351"/>
                  <a:pt x="2133" y="14238"/>
                </a:cubicBezTo>
                <a:cubicBezTo>
                  <a:pt x="2231" y="14144"/>
                  <a:pt x="2265" y="14069"/>
                  <a:pt x="2307" y="13940"/>
                </a:cubicBezTo>
                <a:cubicBezTo>
                  <a:pt x="2341" y="13835"/>
                  <a:pt x="2354" y="13679"/>
                  <a:pt x="2332" y="13568"/>
                </a:cubicBezTo>
                <a:cubicBezTo>
                  <a:pt x="2312" y="13465"/>
                  <a:pt x="2253" y="13378"/>
                  <a:pt x="2183" y="13295"/>
                </a:cubicBezTo>
                <a:cubicBezTo>
                  <a:pt x="2106" y="13203"/>
                  <a:pt x="2065" y="13162"/>
                  <a:pt x="1960" y="13097"/>
                </a:cubicBezTo>
                <a:cubicBezTo>
                  <a:pt x="1834" y="13019"/>
                  <a:pt x="1777" y="13041"/>
                  <a:pt x="1637" y="13022"/>
                </a:cubicBezTo>
                <a:cubicBezTo>
                  <a:pt x="1507" y="13004"/>
                  <a:pt x="1398" y="13001"/>
                  <a:pt x="1265" y="13022"/>
                </a:cubicBezTo>
                <a:cubicBezTo>
                  <a:pt x="1127" y="13043"/>
                  <a:pt x="1110" y="13105"/>
                  <a:pt x="1042" y="13196"/>
                </a:cubicBezTo>
                <a:cubicBezTo>
                  <a:pt x="968" y="13295"/>
                  <a:pt x="889" y="13391"/>
                  <a:pt x="819" y="13494"/>
                </a:cubicBezTo>
                <a:cubicBezTo>
                  <a:pt x="753" y="13591"/>
                  <a:pt x="742" y="13774"/>
                  <a:pt x="769" y="13891"/>
                </a:cubicBezTo>
                <a:cubicBezTo>
                  <a:pt x="801" y="14033"/>
                  <a:pt x="921" y="14184"/>
                  <a:pt x="1017" y="14288"/>
                </a:cubicBezTo>
                <a:cubicBezTo>
                  <a:pt x="1082" y="14358"/>
                  <a:pt x="1165" y="14464"/>
                  <a:pt x="1265" y="14486"/>
                </a:cubicBezTo>
                <a:cubicBezTo>
                  <a:pt x="1370" y="14509"/>
                  <a:pt x="1484" y="14528"/>
                  <a:pt x="1588" y="14486"/>
                </a:cubicBezTo>
                <a:cubicBezTo>
                  <a:pt x="1596" y="14478"/>
                  <a:pt x="1604" y="14469"/>
                  <a:pt x="1612" y="144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0920" y="3348000"/>
            <a:ext cx="117360" cy="189000"/>
          </a:xfrm>
          <a:custGeom>
            <a:avLst/>
            <a:gdLst/>
            <a:ahLst/>
            <a:rect l="l" t="t" r="r" b="b"/>
            <a:pathLst>
              <a:path w="323" h="522">
                <a:moveTo>
                  <a:pt x="9699" y="9302"/>
                </a:moveTo>
                <a:cubicBezTo>
                  <a:pt x="9825" y="9327"/>
                  <a:pt x="10048" y="9300"/>
                  <a:pt x="9872" y="9451"/>
                </a:cubicBezTo>
                <a:cubicBezTo>
                  <a:pt x="9839" y="9476"/>
                  <a:pt x="9806" y="9500"/>
                  <a:pt x="9773" y="9525"/>
                </a:cubicBezTo>
                <a:cubicBezTo>
                  <a:pt x="9765" y="9525"/>
                  <a:pt x="9756" y="9525"/>
                  <a:pt x="9748" y="9525"/>
                </a:cubicBezTo>
                <a:cubicBezTo>
                  <a:pt x="9898" y="9525"/>
                  <a:pt x="10137" y="9539"/>
                  <a:pt x="9947" y="9748"/>
                </a:cubicBezTo>
                <a:cubicBezTo>
                  <a:pt x="9832" y="9817"/>
                  <a:pt x="9801" y="9847"/>
                  <a:pt x="9723" y="97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38760" y="3205080"/>
            <a:ext cx="554040" cy="403200"/>
          </a:xfrm>
          <a:custGeom>
            <a:avLst/>
            <a:gdLst/>
            <a:ahLst/>
            <a:rect l="l" t="t" r="r" b="b"/>
            <a:pathLst>
              <a:path w="1539" h="1117">
                <a:moveTo>
                  <a:pt x="11534" y="9203"/>
                </a:moveTo>
                <a:cubicBezTo>
                  <a:pt x="11658" y="9254"/>
                  <a:pt x="12041" y="9391"/>
                  <a:pt x="11782" y="9575"/>
                </a:cubicBezTo>
                <a:cubicBezTo>
                  <a:pt x="11643" y="9621"/>
                  <a:pt x="11605" y="9637"/>
                  <a:pt x="11509" y="9624"/>
                </a:cubicBezTo>
                <a:cubicBezTo>
                  <a:pt x="11568" y="9506"/>
                  <a:pt x="11713" y="9447"/>
                  <a:pt x="11832" y="9550"/>
                </a:cubicBezTo>
                <a:cubicBezTo>
                  <a:pt x="11851" y="9607"/>
                  <a:pt x="11860" y="9614"/>
                  <a:pt x="11857" y="9649"/>
                </a:cubicBezTo>
              </a:path>
              <a:path w="1539" h="1117">
                <a:moveTo>
                  <a:pt x="11261" y="9798"/>
                </a:moveTo>
                <a:cubicBezTo>
                  <a:pt x="11488" y="9997"/>
                  <a:pt x="11772" y="10057"/>
                  <a:pt x="12080" y="9947"/>
                </a:cubicBezTo>
                <a:cubicBezTo>
                  <a:pt x="12360" y="9847"/>
                  <a:pt x="12611" y="9457"/>
                  <a:pt x="12402" y="9178"/>
                </a:cubicBezTo>
                <a:cubicBezTo>
                  <a:pt x="12107" y="8785"/>
                  <a:pt x="11456" y="8846"/>
                  <a:pt x="11112" y="9128"/>
                </a:cubicBezTo>
                <a:cubicBezTo>
                  <a:pt x="10583" y="9562"/>
                  <a:pt x="11257" y="9895"/>
                  <a:pt x="11584" y="100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31920" y="5330880"/>
            <a:ext cx="2884320" cy="125280"/>
          </a:xfrm>
          <a:custGeom>
            <a:avLst/>
            <a:gdLst/>
            <a:ahLst/>
            <a:rect l="l" t="t" r="r" b="b"/>
            <a:pathLst>
              <a:path w="8013" h="349">
                <a:moveTo>
                  <a:pt x="3423" y="15156"/>
                </a:moveTo>
                <a:cubicBezTo>
                  <a:pt x="3676" y="15061"/>
                  <a:pt x="3926" y="14979"/>
                  <a:pt x="4192" y="14932"/>
                </a:cubicBezTo>
                <a:cubicBezTo>
                  <a:pt x="4217" y="14932"/>
                  <a:pt x="4225" y="14932"/>
                  <a:pt x="4217" y="14957"/>
                </a:cubicBezTo>
              </a:path>
              <a:path w="8013" h="349">
                <a:moveTo>
                  <a:pt x="11187" y="14883"/>
                </a:moveTo>
                <a:cubicBezTo>
                  <a:pt x="11267" y="14863"/>
                  <a:pt x="11353" y="14832"/>
                  <a:pt x="11435" y="148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11200" y="5268960"/>
            <a:ext cx="1544760" cy="339840"/>
          </a:xfrm>
          <a:custGeom>
            <a:avLst/>
            <a:gdLst/>
            <a:ahLst/>
            <a:rect l="l" t="t" r="r" b="b"/>
            <a:pathLst>
              <a:path w="4292" h="943">
                <a:moveTo>
                  <a:pt x="3919" y="15056"/>
                </a:moveTo>
                <a:cubicBezTo>
                  <a:pt x="3951" y="15197"/>
                  <a:pt x="4054" y="15434"/>
                  <a:pt x="4018" y="15577"/>
                </a:cubicBezTo>
                <a:cubicBezTo>
                  <a:pt x="4002" y="15577"/>
                  <a:pt x="3985" y="15577"/>
                  <a:pt x="3969" y="15577"/>
                </a:cubicBezTo>
              </a:path>
              <a:path w="4292" h="943">
                <a:moveTo>
                  <a:pt x="4291" y="15255"/>
                </a:moveTo>
                <a:cubicBezTo>
                  <a:pt x="4266" y="15406"/>
                  <a:pt x="4258" y="15458"/>
                  <a:pt x="4316" y="15553"/>
                </a:cubicBezTo>
                <a:cubicBezTo>
                  <a:pt x="4454" y="15552"/>
                  <a:pt x="4761" y="15481"/>
                  <a:pt x="4539" y="15280"/>
                </a:cubicBezTo>
                <a:cubicBezTo>
                  <a:pt x="4488" y="15234"/>
                  <a:pt x="4307" y="15232"/>
                  <a:pt x="4415" y="15205"/>
                </a:cubicBezTo>
              </a:path>
              <a:path w="4292" h="943">
                <a:moveTo>
                  <a:pt x="4713" y="15255"/>
                </a:moveTo>
                <a:cubicBezTo>
                  <a:pt x="4772" y="15354"/>
                  <a:pt x="4783" y="15369"/>
                  <a:pt x="4812" y="15429"/>
                </a:cubicBezTo>
                <a:cubicBezTo>
                  <a:pt x="4790" y="15341"/>
                  <a:pt x="4718" y="15231"/>
                  <a:pt x="4787" y="15131"/>
                </a:cubicBezTo>
                <a:cubicBezTo>
                  <a:pt x="4902" y="14963"/>
                  <a:pt x="5068" y="15295"/>
                  <a:pt x="5085" y="15354"/>
                </a:cubicBezTo>
                <a:cubicBezTo>
                  <a:pt x="5059" y="15226"/>
                  <a:pt x="5063" y="15173"/>
                  <a:pt x="5110" y="15056"/>
                </a:cubicBezTo>
                <a:cubicBezTo>
                  <a:pt x="5267" y="15130"/>
                  <a:pt x="5291" y="15171"/>
                  <a:pt x="5308" y="15354"/>
                </a:cubicBezTo>
              </a:path>
              <a:path w="4292" h="943">
                <a:moveTo>
                  <a:pt x="5507" y="15081"/>
                </a:moveTo>
                <a:cubicBezTo>
                  <a:pt x="5439" y="15243"/>
                  <a:pt x="5395" y="15280"/>
                  <a:pt x="5457" y="15429"/>
                </a:cubicBezTo>
                <a:cubicBezTo>
                  <a:pt x="5551" y="15394"/>
                  <a:pt x="5863" y="15228"/>
                  <a:pt x="5606" y="15131"/>
                </a:cubicBezTo>
                <a:cubicBezTo>
                  <a:pt x="5573" y="15131"/>
                  <a:pt x="5540" y="15131"/>
                  <a:pt x="5507" y="15131"/>
                </a:cubicBezTo>
              </a:path>
              <a:path w="4292" h="943">
                <a:moveTo>
                  <a:pt x="5854" y="15280"/>
                </a:moveTo>
                <a:cubicBezTo>
                  <a:pt x="5913" y="15359"/>
                  <a:pt x="5938" y="15368"/>
                  <a:pt x="5928" y="15429"/>
                </a:cubicBezTo>
                <a:cubicBezTo>
                  <a:pt x="5928" y="15310"/>
                  <a:pt x="5903" y="15145"/>
                  <a:pt x="6003" y="15056"/>
                </a:cubicBezTo>
                <a:cubicBezTo>
                  <a:pt x="6084" y="14984"/>
                  <a:pt x="6183" y="15173"/>
                  <a:pt x="6201" y="15205"/>
                </a:cubicBezTo>
                <a:cubicBezTo>
                  <a:pt x="6218" y="15238"/>
                  <a:pt x="6234" y="15271"/>
                  <a:pt x="6251" y="15304"/>
                </a:cubicBezTo>
                <a:cubicBezTo>
                  <a:pt x="6259" y="15321"/>
                  <a:pt x="6268" y="15337"/>
                  <a:pt x="6276" y="15354"/>
                </a:cubicBezTo>
                <a:cubicBezTo>
                  <a:pt x="6253" y="15239"/>
                  <a:pt x="6200" y="15062"/>
                  <a:pt x="6350" y="15007"/>
                </a:cubicBezTo>
                <a:cubicBezTo>
                  <a:pt x="6465" y="14984"/>
                  <a:pt x="6497" y="14975"/>
                  <a:pt x="6573" y="14982"/>
                </a:cubicBezTo>
                <a:cubicBezTo>
                  <a:pt x="6627" y="15054"/>
                  <a:pt x="6524" y="15154"/>
                  <a:pt x="6524" y="15255"/>
                </a:cubicBezTo>
                <a:cubicBezTo>
                  <a:pt x="6546" y="15347"/>
                  <a:pt x="6547" y="15377"/>
                  <a:pt x="6623" y="15379"/>
                </a:cubicBezTo>
                <a:cubicBezTo>
                  <a:pt x="6839" y="15264"/>
                  <a:pt x="6832" y="15171"/>
                  <a:pt x="6648" y="15007"/>
                </a:cubicBezTo>
                <a:cubicBezTo>
                  <a:pt x="6640" y="14999"/>
                  <a:pt x="6631" y="14990"/>
                  <a:pt x="6623" y="14982"/>
                </a:cubicBezTo>
              </a:path>
              <a:path w="4292" h="943">
                <a:moveTo>
                  <a:pt x="6896" y="15106"/>
                </a:moveTo>
                <a:cubicBezTo>
                  <a:pt x="6929" y="15231"/>
                  <a:pt x="6918" y="15278"/>
                  <a:pt x="7020" y="15329"/>
                </a:cubicBezTo>
                <a:cubicBezTo>
                  <a:pt x="7088" y="15236"/>
                  <a:pt x="7119" y="15174"/>
                  <a:pt x="7119" y="15056"/>
                </a:cubicBezTo>
                <a:cubicBezTo>
                  <a:pt x="7119" y="15064"/>
                  <a:pt x="7119" y="15073"/>
                  <a:pt x="7119" y="15081"/>
                </a:cubicBezTo>
                <a:cubicBezTo>
                  <a:pt x="7158" y="15224"/>
                  <a:pt x="7295" y="15502"/>
                  <a:pt x="7466" y="15230"/>
                </a:cubicBezTo>
                <a:cubicBezTo>
                  <a:pt x="7551" y="15094"/>
                  <a:pt x="7459" y="14902"/>
                  <a:pt x="7342" y="14858"/>
                </a:cubicBezTo>
              </a:path>
              <a:path w="4292" h="943">
                <a:moveTo>
                  <a:pt x="7615" y="14635"/>
                </a:moveTo>
                <a:cubicBezTo>
                  <a:pt x="7615" y="14764"/>
                  <a:pt x="7619" y="14843"/>
                  <a:pt x="7665" y="14957"/>
                </a:cubicBezTo>
              </a:path>
              <a:path w="4292" h="943">
                <a:moveTo>
                  <a:pt x="8037" y="14883"/>
                </a:moveTo>
                <a:cubicBezTo>
                  <a:pt x="7966" y="14913"/>
                  <a:pt x="7933" y="14949"/>
                  <a:pt x="7888" y="15007"/>
                </a:cubicBezTo>
                <a:cubicBezTo>
                  <a:pt x="7971" y="15019"/>
                  <a:pt x="8214" y="15051"/>
                  <a:pt x="8210" y="15180"/>
                </a:cubicBezTo>
                <a:cubicBezTo>
                  <a:pt x="8204" y="15381"/>
                  <a:pt x="7946" y="15294"/>
                  <a:pt x="7863" y="152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87800" y="5313240"/>
            <a:ext cx="785880" cy="223920"/>
          </a:xfrm>
          <a:custGeom>
            <a:avLst/>
            <a:gdLst/>
            <a:ahLst/>
            <a:rect l="l" t="t" r="r" b="b"/>
            <a:pathLst>
              <a:path w="2184" h="621">
                <a:moveTo>
                  <a:pt x="8855" y="15081"/>
                </a:moveTo>
                <a:cubicBezTo>
                  <a:pt x="8855" y="15011"/>
                  <a:pt x="8876" y="15305"/>
                  <a:pt x="8905" y="15354"/>
                </a:cubicBezTo>
                <a:cubicBezTo>
                  <a:pt x="8961" y="15451"/>
                  <a:pt x="9055" y="15257"/>
                  <a:pt x="9103" y="15156"/>
                </a:cubicBezTo>
                <a:cubicBezTo>
                  <a:pt x="9095" y="15131"/>
                  <a:pt x="9087" y="15106"/>
                  <a:pt x="9079" y="15081"/>
                </a:cubicBezTo>
                <a:cubicBezTo>
                  <a:pt x="9093" y="15194"/>
                  <a:pt x="9155" y="15390"/>
                  <a:pt x="9327" y="15304"/>
                </a:cubicBezTo>
                <a:cubicBezTo>
                  <a:pt x="9532" y="15201"/>
                  <a:pt x="9357" y="14993"/>
                  <a:pt x="9227" y="14957"/>
                </a:cubicBezTo>
                <a:cubicBezTo>
                  <a:pt x="9211" y="14957"/>
                  <a:pt x="9194" y="14957"/>
                  <a:pt x="9178" y="14957"/>
                </a:cubicBezTo>
              </a:path>
              <a:path w="2184" h="621">
                <a:moveTo>
                  <a:pt x="9748" y="14883"/>
                </a:moveTo>
                <a:cubicBezTo>
                  <a:pt x="9653" y="14931"/>
                  <a:pt x="9380" y="15167"/>
                  <a:pt x="9649" y="15230"/>
                </a:cubicBezTo>
                <a:cubicBezTo>
                  <a:pt x="9832" y="15273"/>
                  <a:pt x="9798" y="15066"/>
                  <a:pt x="9798" y="14982"/>
                </a:cubicBezTo>
                <a:cubicBezTo>
                  <a:pt x="9773" y="14982"/>
                  <a:pt x="9765" y="14982"/>
                  <a:pt x="9773" y="15007"/>
                </a:cubicBezTo>
                <a:cubicBezTo>
                  <a:pt x="9857" y="15203"/>
                  <a:pt x="9925" y="15181"/>
                  <a:pt x="10046" y="15007"/>
                </a:cubicBezTo>
                <a:cubicBezTo>
                  <a:pt x="10110" y="14915"/>
                  <a:pt x="10088" y="15050"/>
                  <a:pt x="10096" y="15131"/>
                </a:cubicBezTo>
                <a:cubicBezTo>
                  <a:pt x="10107" y="15009"/>
                  <a:pt x="10117" y="14827"/>
                  <a:pt x="10244" y="14759"/>
                </a:cubicBezTo>
                <a:cubicBezTo>
                  <a:pt x="10269" y="14759"/>
                  <a:pt x="10294" y="14759"/>
                  <a:pt x="10319" y="14759"/>
                </a:cubicBezTo>
              </a:path>
              <a:path w="2184" h="621">
                <a:moveTo>
                  <a:pt x="10468" y="14982"/>
                </a:moveTo>
                <a:cubicBezTo>
                  <a:pt x="10490" y="15072"/>
                  <a:pt x="10498" y="15096"/>
                  <a:pt x="10492" y="15156"/>
                </a:cubicBezTo>
                <a:cubicBezTo>
                  <a:pt x="10492" y="15059"/>
                  <a:pt x="10415" y="14899"/>
                  <a:pt x="10517" y="14833"/>
                </a:cubicBezTo>
                <a:cubicBezTo>
                  <a:pt x="10595" y="14783"/>
                  <a:pt x="10767" y="15030"/>
                  <a:pt x="10790" y="15056"/>
                </a:cubicBezTo>
                <a:cubicBezTo>
                  <a:pt x="10755" y="15199"/>
                  <a:pt x="10807" y="14898"/>
                  <a:pt x="10889" y="14808"/>
                </a:cubicBezTo>
                <a:cubicBezTo>
                  <a:pt x="10994" y="14891"/>
                  <a:pt x="10964" y="15255"/>
                  <a:pt x="11013" y="15131"/>
                </a:cubicBezTo>
                <a:cubicBezTo>
                  <a:pt x="11021" y="15106"/>
                  <a:pt x="11030" y="15081"/>
                  <a:pt x="11038" y="150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79960" y="5268960"/>
            <a:ext cx="401400" cy="241200"/>
          </a:xfrm>
          <a:custGeom>
            <a:avLst/>
            <a:gdLst/>
            <a:ahLst/>
            <a:rect l="l" t="t" r="r" b="b"/>
            <a:pathLst>
              <a:path w="1117" h="670">
                <a:moveTo>
                  <a:pt x="11609" y="14734"/>
                </a:moveTo>
                <a:cubicBezTo>
                  <a:pt x="11616" y="14829"/>
                  <a:pt x="11612" y="15096"/>
                  <a:pt x="11782" y="15056"/>
                </a:cubicBezTo>
                <a:cubicBezTo>
                  <a:pt x="11902" y="15028"/>
                  <a:pt x="11912" y="14888"/>
                  <a:pt x="11956" y="14808"/>
                </a:cubicBezTo>
                <a:cubicBezTo>
                  <a:pt x="11993" y="14907"/>
                  <a:pt x="12000" y="15066"/>
                  <a:pt x="12154" y="14982"/>
                </a:cubicBezTo>
                <a:cubicBezTo>
                  <a:pt x="12281" y="14913"/>
                  <a:pt x="12258" y="14823"/>
                  <a:pt x="12303" y="14709"/>
                </a:cubicBezTo>
                <a:cubicBezTo>
                  <a:pt x="12362" y="14887"/>
                  <a:pt x="12477" y="15113"/>
                  <a:pt x="12477" y="15304"/>
                </a:cubicBezTo>
                <a:cubicBezTo>
                  <a:pt x="12469" y="15304"/>
                  <a:pt x="12460" y="15304"/>
                  <a:pt x="12452" y="15304"/>
                </a:cubicBezTo>
                <a:cubicBezTo>
                  <a:pt x="12315" y="15121"/>
                  <a:pt x="12099" y="14756"/>
                  <a:pt x="12477" y="14635"/>
                </a:cubicBezTo>
                <a:cubicBezTo>
                  <a:pt x="12640" y="14659"/>
                  <a:pt x="12693" y="14658"/>
                  <a:pt x="12725" y="14784"/>
                </a:cubicBezTo>
                <a:cubicBezTo>
                  <a:pt x="12597" y="14945"/>
                  <a:pt x="12513" y="14989"/>
                  <a:pt x="12402" y="148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68920" y="5089680"/>
            <a:ext cx="231840" cy="376200"/>
          </a:xfrm>
          <a:custGeom>
            <a:avLst/>
            <a:gdLst/>
            <a:ahLst/>
            <a:rect l="l" t="t" r="r" b="b"/>
            <a:pathLst>
              <a:path w="646" h="1042">
                <a:moveTo>
                  <a:pt x="13271" y="14288"/>
                </a:moveTo>
                <a:cubicBezTo>
                  <a:pt x="13271" y="14171"/>
                  <a:pt x="13307" y="14469"/>
                  <a:pt x="13320" y="14585"/>
                </a:cubicBezTo>
                <a:cubicBezTo>
                  <a:pt x="13320" y="14630"/>
                  <a:pt x="13317" y="14650"/>
                  <a:pt x="13345" y="14610"/>
                </a:cubicBezTo>
              </a:path>
              <a:path w="646" h="1042">
                <a:moveTo>
                  <a:pt x="13469" y="14139"/>
                </a:moveTo>
                <a:cubicBezTo>
                  <a:pt x="13526" y="14304"/>
                  <a:pt x="13596" y="14462"/>
                  <a:pt x="13618" y="14635"/>
                </a:cubicBezTo>
              </a:path>
              <a:path w="646" h="1042">
                <a:moveTo>
                  <a:pt x="13246" y="14932"/>
                </a:moveTo>
                <a:cubicBezTo>
                  <a:pt x="13315" y="15118"/>
                  <a:pt x="13411" y="15244"/>
                  <a:pt x="13643" y="15156"/>
                </a:cubicBezTo>
                <a:cubicBezTo>
                  <a:pt x="13684" y="15141"/>
                  <a:pt x="14031" y="14842"/>
                  <a:pt x="13891" y="14784"/>
                </a:cubicBezTo>
                <a:cubicBezTo>
                  <a:pt x="13868" y="14806"/>
                  <a:pt x="13863" y="14814"/>
                  <a:pt x="13841" y="148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W pg. 69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14 pick 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-20 pick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9:28:08Z</dcterms:created>
  <dc:creator>ccps</dc:creator>
  <dc:description/>
  <dc:language>en-US</dc:language>
  <cp:lastModifiedBy>deanne elizabeth mcgrath</cp:lastModifiedBy>
  <dcterms:modified xsi:type="dcterms:W3CDTF">2011-12-06T20:15:26Z</dcterms:modified>
  <cp:revision>10</cp:revision>
  <dc:subject/>
  <dc:title>12.17.07   Section 6.2</dc:title>
</cp:coreProperties>
</file>